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media/image26.jpeg" ContentType="image/jpeg"/>
  <Override PartName="/ppt/media/image19.png" ContentType="image/png"/>
  <Override PartName="/ppt/media/type.wav" ContentType="audio/x-wav"/>
  <Override PartName="/ppt/media/image25.gif" ContentType="image/gif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23.gif" ContentType="image/gif"/>
  <Override PartName="/ppt/media/image49.jpeg" ContentType="image/jpeg"/>
  <Override PartName="/ppt/media/image15.png" ContentType="image/png"/>
  <Override PartName="/ppt/media/image22.gif" ContentType="image/gif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30.wmf" ContentType="image/x-wmf"/>
  <Override PartName="/ppt/media/image29.jpeg" ContentType="image/jpeg"/>
  <Override PartName="/ppt/media/image37.png" ContentType="image/png"/>
  <Override PartName="/ppt/media/image41.png" ContentType="image/png"/>
  <Override PartName="/ppt/media/image39.png" ContentType="image/png"/>
  <Override PartName="/ppt/media/image27.jpeg" ContentType="image/jpeg"/>
  <Override PartName="/ppt/media/image52.png" ContentType="image/png"/>
  <Override PartName="/ppt/media/image40.png" ContentType="image/png"/>
  <Override PartName="/ppt/media/image42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28.jpeg" ContentType="image/jpeg"/>
  <Override PartName="/ppt/media/image7.jpeg" ContentType="image/jpeg"/>
  <Override PartName="/ppt/media/image20.png" ContentType="image/png"/>
  <Override PartName="/ppt/media/image50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8.png" ContentType="image/png"/>
  <Override PartName="/ppt/media/image8.png" ContentType="image/png"/>
  <Override PartName="/ppt/media/image51.png" ContentType="image/png"/>
  <Override PartName="/ppt/media/%E8%B4%9D%E5%A4%9A%E8%8A%AC%E3%80%81%E8%BD%BB%E9%9F%B3%E4%B9%90%E9%92%A2%E7%90%B4%E6%9B%B2%20-%20%E8%87%B4%E7%88%B1%E4%B8%BD%E4%B8%9D.wav" ContentType="audio/x-wav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  <p:sldId id="275" r:id="rId71"/>
    <p:sldId id="276" r:id="rId72"/>
    <p:sldId id="277" r:id="rId73"/>
    <p:sldId id="278" r:id="rId74"/>
    <p:sldId id="279" r:id="rId75"/>
    <p:sldId id="280" r:id="rId76"/>
    <p:sldId id="281" r:id="rId77"/>
    <p:sldId id="282" r:id="rId78"/>
    <p:sldId id="283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slide" Target="slides/slide20.xml"/><Relationship Id="rId72" Type="http://schemas.openxmlformats.org/officeDocument/2006/relationships/slide" Target="slides/slide21.xml"/><Relationship Id="rId73" Type="http://schemas.openxmlformats.org/officeDocument/2006/relationships/slide" Target="slides/slide22.xml"/><Relationship Id="rId74" Type="http://schemas.openxmlformats.org/officeDocument/2006/relationships/slide" Target="slides/slide23.xml"/><Relationship Id="rId75" Type="http://schemas.openxmlformats.org/officeDocument/2006/relationships/slide" Target="slides/slide24.xml"/><Relationship Id="rId76" Type="http://schemas.openxmlformats.org/officeDocument/2006/relationships/slide" Target="slides/slide25.xml"/><Relationship Id="rId77" Type="http://schemas.openxmlformats.org/officeDocument/2006/relationships/slide" Target="slides/slide26.xml"/><Relationship Id="rId78" Type="http://schemas.openxmlformats.org/officeDocument/2006/relationships/slide" Target="slides/slide27.xml"/><Relationship Id="rId79" Type="http://schemas.openxmlformats.org/officeDocument/2006/relationships/slide" Target="slides/slide28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5B8-E7CA-48F8-9CB0-44079A3D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A7C-67BA-4A86-837C-6AE3501D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6A729-460E-447C-B7D7-A026C63D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44AB8-6DEB-4E3C-8CA8-4078BE0D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6C3EB-ED12-4EDA-A21C-A05C7B5A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AAB9E-8507-4F71-BC13-047346D5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0A4D4-8C93-4846-A281-846417AA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35F9A-B5E8-45C9-8C1B-4A33D6A7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0F1DE-1738-401D-A240-42D8D9F8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F0C2F-A5F1-441C-B4E3-217CEAA3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B5579-7917-4B2B-8A0A-7EE09EA6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CF3BB-7BA4-4F8F-A648-2A2F9B47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29BE-E7BA-4DC9-9C88-1571FD02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386BE-4577-40FC-B20F-B72EBFD4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16D72-E9A7-4634-B6B4-8E586956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C7A25-AE49-4BC0-8E3B-897AE3E0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2F69C-A0D8-4DF6-AC61-F60B2035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D1FB0-C1DE-44B7-8BAB-7A6F11DB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2D4E9-2C17-4C01-A86F-D2CA61EB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272EF-7C84-40B5-B714-BC740029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A66BA-D748-44A9-8FE5-AFA2365F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917BF-0B9F-4F44-BC17-3CAAADCB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25F30-BC01-4FFD-94DE-F1CACA63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B79-6B00-47B2-BAC8-CE366A22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16A46-F072-4383-B1B1-8A63CF70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DBC56-737B-4FFC-88C3-B1033516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E2F64-2970-4566-9481-F41054DA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594CA-4D84-46DD-A6F5-924C6195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62F37-65E0-462A-A6E4-D8671F28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8D674-2851-45CF-A4AC-CDEADF87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38062-0704-4ECF-BA68-A5E2D75C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61EE2-408D-4F9F-AEFD-DAFF1418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080AE-C9D2-476D-AB31-5A8E5064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B1872-4BA9-48F6-B032-70AEA0F7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B95E-8C28-4F5D-9BBA-899A7E3E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B2F78-C1B9-4FBA-B479-8EF83245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C7768-4ECA-4C4C-9882-48CC3EF0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59833-E2F3-421D-AA56-24A1E7FE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FBE90-1FBE-47BA-8337-9C3CCD3D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B5B50-B798-485A-92E0-F4E81DFE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E7DB0-552E-422F-8F9C-70D04FF2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9B88C-D4E7-4937-8EC2-A771AC73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1F87A-17C5-47E4-A016-DB83D702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72A01-70CA-468A-8B6D-F4AECC0A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E25AE-3EA1-4888-949D-923F9BFD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B2F9-0767-413E-848A-26149C50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9F147-127E-4007-96A8-571DB517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C9BD2-4E98-4970-B276-CC1241DA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6FACB-696C-4C43-A31B-9B221D8E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BCCB0-A5C0-43EE-B313-3F92F840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3FDE8-5578-4957-907B-26C60E41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915DC-30F8-4F10-9272-76C131AC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740AC-9C9F-4E12-A328-CD4D9081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209BD-29D8-41C8-A000-7B16F45E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6666E-A588-4F08-B6FD-201CB6E5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35688-FA08-4C07-A058-1345C160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032E-5C38-4560-819F-BD6D42DD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FA985-3FA9-4F49-822D-1A9EA3E8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6C44C-6CFA-472C-9D46-0B3D0747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44F9B-2F91-470C-8834-D1DE7972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41EDA-1F49-4884-BB22-59C65EEA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6476A5-0275-4AEE-AC06-912834A0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F57347-369F-4E91-83F1-D26D867D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BC749-2ED3-42ED-928B-C9F36953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B8751-F05F-4683-91D7-241B41EA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41B51-8122-4313-97A2-31AF73C9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5622C-0E27-4151-997D-03C3FC59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E4B1-DA7F-4904-BBD2-3570508D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3BBAA-BC16-4431-9AF4-47DF7E61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1C79B3-2F35-4A62-B063-652C5A68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E51D4-ECFE-4BDE-AFB4-37A66DBE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C4ACA-A6D2-41D4-8642-E4D31DE1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377D3-9E76-4B7A-8D3D-A2ED46C7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EF274-C124-4359-828B-27CED227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A9A5A-A6D7-4438-B5FA-6669F84F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538B4-19E9-4C8F-9721-E3A4744D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9343D-AD47-4C2D-81E2-9A91E48E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64C012-9197-41F2-A827-56EF4FF0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42DD-A63A-443F-A086-09F8EE26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686971-3B59-4F4E-A606-445063A5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5DB4C-10BA-4085-878C-152C869F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317D9-9003-4F11-A9A0-6DC93451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2E3B4-4AE2-411B-976F-AD32C4F9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BD713A-6E11-4AB8-A4A0-75D6AE7F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3B2CD6-CDEB-4344-8E93-7ABE000B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5EF69E-BA42-4D2D-96A3-1DFFD63D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0607AB-5401-4754-BB79-055553A6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82149-A93F-493E-813A-3B3DBA11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50DBEC-5433-4E08-831D-C075A607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DE51-E646-4654-A5BE-D2440D18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575207-F1DA-4940-B28D-AD2FC3F0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4BAA41-655C-441F-AE11-0547CFBE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64685E-9804-48DA-B249-1EC0FF7F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08135-C46E-41AB-A7B5-A2451AD6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7BDD19-728F-4519-86F9-9E7E53D6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66E29B-BF63-43FD-90DE-3428BAF0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8D7E0-B468-465C-971E-FC4F7A04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B6D68A-2B72-4267-9054-976854A7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A5EF50-BEF2-4127-9A3B-FD5CCC98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5595CE-82A9-4BB1-BB91-393138F1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940A-6731-4B13-8BA9-94461955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978479-DBFA-4BEC-85EC-FA726075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D61BC8-D45B-41BF-9FB7-78589348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B8A51-7124-4D48-9886-283D1ED9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7F83DA-D2E3-441F-AAED-B6BF6F19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4E9921-4AD8-4A3D-B04A-EB222F08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FDD015-DA02-4EAE-849A-EA450647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ACDE04-6846-4136-A91B-BA1AF7AD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1EA522-3B77-46D1-839D-A26F7387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4FD779-D3EC-4FCB-8B3F-0CF96A1F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BFD46-3908-46CF-84CB-1001DD13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DF8-167E-43CB-AE5D-DE6D66E3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16C7-1CFD-4815-8170-42B50B32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39F124-E518-4F6F-8FF7-32552674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06DE7D-B1E0-4067-AC3E-41C35A9F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062F0A-66DB-4112-AA68-AE2462BF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EF12C3-D72A-4401-BEB5-99CE63EC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2922D6-AC4D-4A35-BA46-02B13F89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2B612D-7A83-4273-90F7-43063AD7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7146A7-71A6-4C72-A473-6AA8E4A4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0987DD-C018-4A78-BED0-958C6C23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05E8C8-1264-47C3-8344-944AEC48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76CC0E-8AAE-4B18-9DC1-C29EC563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1BF3-A109-4F30-A2AA-C9B22011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AA462F-2DD8-461C-92B9-93F91639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0BF2E3-F082-45EE-B2F1-B5A6ABB8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1A832-6D81-43E3-8D1E-0EE2961F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DA4F21-762B-4A55-963A-114FDF61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D51EAF-FADE-4F53-BBF0-79DAFAD9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51EB73-8942-4C01-9B17-50F27177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55940B-B5AB-445B-A075-BB8E6200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D87A58-B1B4-4682-94FA-0B3BB5AC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403B73-5BBF-498D-9563-BCB6B093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D6B20A-ACD2-48C3-AA6C-4595CFCD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7D21-4364-40E4-8441-ADD2CD20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1859D0-0FE8-46C3-BBDB-B79C8B3B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89B31-E1A8-48E6-BCCE-92B4902F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5EA56-3F7A-4E5D-B536-3E66AA70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8D8D4F-200C-445C-9448-52394F0C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0E2A0-CE4B-49B7-9514-D2585D27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CD9CEF-4162-45D9-90A0-301D5AD9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51C71D-57A7-469D-B2C2-A4A59440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370914-A7C4-4737-B975-292E0593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433F76-4E99-4E3C-8C07-1AFE771C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4036C0-32A4-4CAA-B14B-4E2B0F2A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950A-6C69-491F-919D-D2CBC8D6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0309FF-4C54-43D4-ADE7-AB5548C6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9AF5EC-0977-417D-9737-0DB3AEC3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582BE6-B420-4108-A8CD-C267CD1B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8E8D98-000E-4682-B3FD-23BC3AF3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51F523-8FBC-4897-9812-84C0378C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D8754A-1A44-4BB5-A2EE-B5216D94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3AB10B-B87D-41CA-B533-31764A8B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9A46F5-D0C5-465E-A7B0-AAB0D816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940C56-57F1-4EF4-8B5A-DB63CCCA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865EEF-44DA-4781-AAC8-0761422A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C251-733A-4BFA-8CD2-590BDD81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041338-F5A7-4CE4-B30E-213F1F3D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3197DE-81B0-42BF-A88D-13FCD1B9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E476DC-E828-4972-B85E-ECC07D25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EAB223-9AA1-4D3D-B1F1-1975AA8F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D126F2-94CD-4C30-BE5E-36F977B5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E36C21-E93C-4CF4-9FE2-9A3D3B9D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E6879D-A018-4ABE-9834-13FB3F21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7525DC-7405-48B7-8A1E-B636E50C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C82B84-0222-46FB-BFCE-E5140872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39FBD0-F69B-4C0E-B1BD-9C0DFDAD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668A1-E5D6-4150-B59F-C506594A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9A352D-EDE4-45F5-AECC-3784FDC5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6975CC-D9EC-404E-8D00-DD4BDD3D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DE3230-27A7-45AB-A6AF-D5B04D9E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59AB57-D719-4CB3-94F9-7F0B71F1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E3B451-4511-4D63-BED5-51C95E4B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2ED768-36E3-4991-9F24-32B4BBC4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3C8763-A251-4AC1-A5C9-96D6BD9D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2DBD38-AFBD-4875-B1BC-08BC25FE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0FB2CA-22D9-40B5-8101-4AB5B071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FB90E0-547F-4AD3-B937-09857283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E1BE-AEA6-4CB5-8D2C-8B81FA5D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CC7341-8799-4801-9ED6-B5531425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323091-B10E-4E35-ABB3-8C87E395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E5B56D-6FCA-49CF-BE6F-9B2237D5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0078F2-5C30-4EB0-B7C3-B3415DDA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F4D435-405F-4DE7-98C5-8A8CFF59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E81948-1FFD-444A-98F3-5929FB21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634E85-0778-4925-AD90-15A67548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08B009-21EE-4935-B581-68E294BF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68D6E6-DB31-4B10-92C5-27B3BADC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68C27A-CAD4-4280-9A10-66049F5B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2F89-2BDB-49E7-858B-7C0E1DCB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9E1E0C-5B52-4C46-A2E2-783181E4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E0A82B-5C0A-438E-8908-3E80CB42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1F5A22-03F4-499E-A253-DC826566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DACA29-6C43-440E-AA71-81C596C7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DCA9B8-E098-4FD6-BDB9-34EE1392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4C26F3-27DF-4B71-B3AE-38B23B05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8E76E2-5A01-40FA-BD0A-F2AC46C4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3E617C-BAC4-47DC-8AB3-A7670A14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16205E-7AD7-4733-82A3-DDA16EB8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2486AE-F4D6-4192-84C3-ABB498EC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9B151-0387-42C4-8E51-B95F818B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AE24D4-0D88-4F11-8ECD-EB320579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07DEAC-8152-4105-B287-9E3A788E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33C00A-1E26-4C53-9CBF-97295CED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EE01AF-05ED-4D04-83CA-B20FF157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2DE4DE-B75C-424B-9DBA-EA54457D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85AB74-CF8E-4101-AE94-B0A0A266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5C6644-5907-4427-9E32-574672AD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12023F-F788-4980-BC71-4240C2AA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8A1998-B051-42D4-BB40-F195E566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7D5139-F147-4042-897B-45917E3B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DDAF0-9D69-4CE4-84D2-AD61CDFF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DBF07D-A36E-43C8-867E-3D5C40EF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47D170-CAE8-4566-87FE-10D90C53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25E331-3F5D-4CCB-9342-374B81D7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A2DCD8-A39E-4450-BB4E-2228A1F8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0B387D-D002-48B7-9C64-9DD69996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673C09-A72F-4C93-992F-0FE1E4A4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34389E-4CE1-478D-93DA-917F2043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270979-61EE-413A-B396-972A54E0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4B836B-6A78-46BC-8E55-0580F391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34032A-0327-4315-B9BE-5BD27511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912-42C4-45C8-86BB-6D8FA73C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38E93-6149-461C-B5D8-D9EC3D45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67E13C-5C8F-4CCA-8FF6-242A79F5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4099D2-36F6-490A-B13B-3ADDADF5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4B0F1F-B8B2-4767-8EAC-02836222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C1C735-5265-4A06-80F0-C43BBE4F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29A83A-61C2-455E-A303-F32FFCC2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81FC60-AE05-4D64-85F0-4E8CCAC7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20770C-8A90-42B7-8033-78521348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95AE55-3816-4700-B069-1B1EB1AC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8FEBE4-D9D9-474C-B9D1-3EBE0A3C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22DC86-4EDE-459C-A7C6-8386EBE6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6BDE5-C1F1-4384-A28E-35ABB5DC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7A32A5-755F-4064-95DD-1BBDF35D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19D4C1-851A-4E72-8DBF-E9317735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2290FF-639C-4CC5-95BD-424D2F0F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D84D6F-9082-4091-A91C-EAA9CEBD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4DD549-D574-4DED-9CEB-D1D3E65C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D2F842-8367-40F9-869F-B2BAA416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0ACBC1-9CBC-4119-B582-BA4005E1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18841C-33FA-402F-8980-4930099E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E91687-7D9B-42F2-A5F5-4CD6EEEF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5D70CC-6806-4439-B87F-12C887AA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10FBD-C4BC-448B-8BE6-9725036C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0A49B8-7CDB-41BB-B48B-65A32AD2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17A54F-2351-4BDC-BAEC-3A0849A3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8B1E7B-C964-4C83-A173-31ECD50E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72DD2F-BFFA-410F-AD2F-E4A4A965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D77530-E5F3-4C8C-9AC7-48DE9320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B0DE79-D058-45BD-91D8-A1ACDAA8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E0942B-0E6D-48A8-B7DE-286949DD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EA994E-8F95-463A-8DD2-6E74403F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7C885A-4A39-430A-9118-E9B73ED1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0783F8-97EE-473F-83ED-48EB852A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4BF29-1946-45B5-85DA-C042EAC9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9FFAE0-0A48-4399-B019-24C4596E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5C08EE-B448-4618-A158-7DEE0591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4F4845-120C-44A3-B589-AFA373A1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7153EC-7727-4197-AF12-65BEABD6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C9B413-3BCA-46A3-9588-49662742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9E8BFF-E738-4BA0-A768-C8AFD19F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885477-4D4F-4195-9291-8E09320D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7E6FE3-CE0A-4E82-B14F-AA8FA8AF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F8F9A6-370F-46BA-BF97-0F5FED46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5962F2-A04D-4E26-BD62-28D90ED1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E84FF-0FA8-40A5-95F3-7CD8A234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9A9812-3D41-40A4-9ECE-B07CC947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7022D7-3299-41D0-AAB4-D0F91FFD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E06B41-1EA2-4758-B0FA-772C9AC5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DF2397-2FD1-40FC-B194-4A22369B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DFE979-E2AA-4541-965A-3F5B7BB4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46A55C-C37C-47B6-8416-FE867D93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BD5851-77B9-4AD0-96D7-4C6397AF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7C59B9-9BB8-48B6-9F6D-296293A1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0B3705-18F5-4C21-A553-F0555651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B1D6C5-88EA-4BE3-9A7D-0E84F869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574B-73BD-42DB-895E-518D5FDA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CF7A8A-8C6D-4375-A927-883384D1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AEED23-5141-4F26-9B21-AACAE276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A34FA6-F215-4A38-A2EC-A594AA45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18EF12-B320-41D9-870F-8281F8BC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3F8A1C-BA5C-41F5-8D78-6300C1E9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617C8F-6DD3-4F33-9C75-CB02EB2E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5F831F-FE1D-4989-9F33-DCC65CDD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008715-0292-4727-941D-E453D46A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ED749A-7256-44DC-ACF8-77FE9A5F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041C2F-DF4B-4F80-AE8F-57C344A0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42F6-ED8E-43E1-B61B-CFF18600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501803-C39E-416F-94FB-227B77A7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775D63-FF7D-4969-91F6-05DDD739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23FAE6-2B3E-40A4-8F4C-C8D21E97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39D622-71AE-4E25-B3D0-C6EAAF9A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FD995E-0A41-4E6E-B94B-124A9882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4DE743-3E17-4FFC-9A62-B4E2C677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3898AD-68FC-4782-BF74-4212E3D4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11ED12-14A5-45A7-B6D6-F7C5B98F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D5EF54-0B55-4E7E-8F48-077C29A0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25583C-58B4-4B62-93D2-EFB6577E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C71D6-8C96-4C18-A08F-896D9B69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408D7D-81A4-45C5-8DB0-BDDEB6BF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DF5FC7-1BE7-4A53-B50F-B390128D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542ACC-0664-4A10-8A3C-3EBC1221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877C6C-B489-4EB3-B76C-FE303AC6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6F9E3B-9ABA-40F1-BF5F-7C32EE59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7F278E-14E2-4F8F-850A-6E7E0295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1DDCE3-E865-48FE-B072-ABC64689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321DAA-F1D3-4D54-BF7B-B479ED8D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EC585D-7F0D-49C8-84B4-ABD68CC1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9DD13C-DFDD-4FFC-AB83-791DEB5D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72547-487A-4664-BA01-7AA0DB28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CCA519-9E41-452D-A540-C37F1CFD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2E3558-C724-432D-A424-CE1C8DAC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69639D-55E2-47D2-8AE9-F98FC122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3061AC-9355-45C0-83BA-F6221528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8DC0A0-69A3-43B5-A119-74C9AA6C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2617CB-6907-4AFB-AE9F-384A039D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7C0366A-D7F4-4B59-B1E6-601C0575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B04329-7D4A-4575-960D-F3B75EF3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B9DE97-33AD-47BB-8E1D-054C4A89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01E7DE-3C3F-4EDB-9745-870FBCDF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F5676-0755-4A41-BDC2-E95400B7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4DF210-9D11-461F-AC88-D6C32A63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92BBEB-994C-40FF-9F51-A671BF6D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B78AEC-AD32-45E0-9C38-77651F1F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D08330-45D8-4C49-9A63-5CE1CDF9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D60C55-47D2-4964-A60F-43CD6BD1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BE5773-7A5D-4C8A-A2DC-AA5549FB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8D282D-7F4A-4D05-92ED-3B6C46EC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3D4B7C-8206-473E-9C2C-A94D040D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694B57-04C1-4F5F-A03A-A6BA021D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BB4DE2-AA73-404E-B968-D2918625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2AD-7F04-4A60-9D63-229F942B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42172-5BD9-43EC-95DC-DAB386E6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0410A5-2468-43C6-B105-3D878D1D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B6E1E1-9FC2-4FE9-86C8-404CF81E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7FFEA7-291A-4696-A186-1D6F4B35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126097-3C2B-4EA0-9959-938C179D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1C7918-EF19-45D3-B9C1-4A454AE7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D03B1A-AB72-4979-8829-8E75BB62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7B3B72-7C76-4D0B-A082-CBE31B6B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A02E54-B009-4F9E-9C58-27C3683E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E71204-0457-4A5A-8B72-E1CA78B4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B7F5B1-856A-4084-A33C-75E2DC8A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9030F-1F19-48E0-977F-B05A5C9B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15A698F-B260-4C44-A6FB-ECD2038A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52D0B9-B31E-4167-9106-4A43C162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AB17BAA-8D9A-44B8-8340-75A4AA86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C4E978-4FF4-46A2-9CE3-66ABAACE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57FB69-EBCB-47C7-A873-D1D3D386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B821D8-87BD-4D4F-A6B4-7A16F05D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720C1C-60E7-4908-BA82-EB44429E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B09D07-8580-4ED2-B33B-B1899577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45EED5-A1AF-4778-83C3-A1F1B09E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7AD85F3-F491-4C02-9F29-C0812B71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8C082-B837-4B83-AEDC-FC96F0CE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801DCE-87EE-42C9-927C-811473F4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BE669F-A6F9-4F30-AE9F-D72AF01C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36BA84-28B4-40C0-9204-8F0EBAEE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EB7D67-8796-4C18-A207-9B62741F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E44CC3-EEE7-4672-9D3E-5F1C330B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52DAC6-7DFB-4FAA-92CA-4725C0CE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C17E9A-8C53-48D2-BAB5-5A354981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629B60-547A-4FC3-BD75-14300A71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0DAC54-DA4D-445D-8407-EB2A7D3B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D696B2-F3FA-40D3-9236-E9D9BD58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B2CE-3327-4199-823E-FD34A407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556ADF-F026-484B-9CF2-EF5061AA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99BF70-2C0A-43DD-AA61-8F1D440D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A45727-0B85-40F9-8096-611FC92D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71E04B-955C-4EF4-8548-E50EFE69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0FF641D-B2EA-40D9-9D4F-4D0EDC06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B203C0-6312-4E9B-B64F-6658B514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817623-7C79-415C-834F-7F588A63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36F20F-4189-4C6F-98A7-AC86C77D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4F8B37-7EA4-4F06-9F0D-BAC57679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39B553-3A43-41C7-96A4-5DC8EEA6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68297-90B7-4A47-8141-D1AE2CD6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50E39E-01F5-463D-B881-9A3C89A0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8E0AA47-E76F-43F1-AE47-AC8DDF13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BAE4705-2C86-40D1-9281-3A44E2DA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3185F6-0F36-4A55-9833-5C8492B9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273FF9A-AB0A-4152-A5F4-57192BE4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B107707-4198-4033-85FC-0A83E27F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AA3F1B-1951-4AC9-B809-54487502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534B19E-6244-48F2-89A5-93FC7DAE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1172DB6-9064-48BF-A003-45D8A4DF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3A3277A-6CE7-47D8-ADF7-5799A5F5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3A37C-2C1A-4FD5-806A-4ADEE05A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8DD0923-2253-4189-B1F4-3E8C6C10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8157243-AD0D-4093-92BC-54E51398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B3DCF7D-F7D1-4CBD-A1B4-34028567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62BBCC-566C-4587-903A-726479AA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EF0568-C8CB-4B02-8ABE-BE5A472E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88CFD9B-AFA3-4779-8C0D-7FEA1C20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2DE7253-8C4A-4C4F-88B1-36A45391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757B16-303D-45A3-B6D5-721C4A60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0AB0A6-8F1F-45DF-8612-087079CA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58D8A08-6017-4AB9-BA4E-5E9D2EDF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823CD-E819-484A-BE81-B1E2C68E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ECED057-785F-4DBC-9818-91CD8805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0A2A5E-5E5C-461A-8A73-3AD76237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5016CD9-3071-450B-8684-E70B4AF2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4D6175-1445-454D-BF73-AF5205B0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E9F3A47-6803-4EF4-8167-88EF7C2F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3B1E2A9-0E1C-4886-91EE-93970402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6F44C12-9022-4266-B6D3-38E03BD3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AD7CDB7-9A37-4FB7-B72B-6D128268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CE845F3-48DC-42BF-89CF-CC28DC2C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44E966-D712-474D-9B4F-F8BA1E3C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349AC-97B0-45CB-9346-C8A616B9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B0F814-DF22-42EC-A7B9-E3D1FBC6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81058E0-8DD0-4D69-ADDC-34BEB888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E2E6FC0-D3AC-458B-9E5D-603ED950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BF5AD1-3A67-4BE0-AFC6-E9F931B2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0CBE10A-30C9-45A3-86F5-C2D13210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3AFA14F-2856-485B-A5DB-1ABFCA40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5AEB726-2F3D-47D2-BE44-6DF798C6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21F45DD-FCE4-434E-903F-175DA80F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FB437B7-B132-433C-85AF-2615CF96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81B42DA-D5D3-485D-97A9-1573D71F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60F74-BB70-49FA-9C4C-1D44156A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B07383B-6B82-43E0-BEDC-79179BD1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F4C927-FA75-40E9-8313-52461984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8A3D461-EAD9-4555-8FD5-7963D005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B5D88A0-A0D2-4C8B-8F75-F2743254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51EDD36-B4BF-422E-B90F-0E51A1D3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95E849-B860-4B66-9A32-54C32D14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B373323-4C08-4D4A-801F-68D15D95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1E15A6D-FEA4-4EFB-96E0-B8F7BABB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A63650-5BB5-4E62-828E-56F64BEE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06F947-3055-4A62-A8D8-5BEBAD9D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97904-D91E-4257-B120-B826F79A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B378B8F-6AA9-42B3-8E6A-EB35B406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E996813-B133-4D88-A147-54429A5E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0D14525-80E7-4910-B5E0-8F1617E0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A3A4EC6-0071-4AFB-BF41-C10C793A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AFEE4CB-FEAD-422D-8763-F7A0F57D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708D1F3-7D81-46F0-9763-4F6AE2A0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5BBF63F-44A6-4900-B44F-1C1C7452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8EE74EA-B184-4C92-809A-CCB9B764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37C3FCE-527D-49F8-AFDD-294AE067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15DC28C-8722-4CA1-A972-36183C0B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813-0B62-4231-B4CC-DC874086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4C2CD-8AD5-4036-980E-70A6851D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A378C7C-4B29-43D5-8E88-51649A99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C646BF3-A7CD-4FB8-8323-E9F66EF8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3DC1D8D-756B-46F4-9709-9EFCE5C6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6BF9A00-346E-434C-BA25-33DF4AB1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4DF6F8B-1323-496B-937B-B90E39F9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C53E0E9-08F3-41EF-8804-B34A39DD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C9447F5-E89B-4CD1-AF5D-179428CF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8AF477-E8B1-4BD3-83B2-EF8EABF9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41ED07A-4FA9-4CA6-892C-8B8DEDB7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54D79B4-FD25-4100-92B3-87C6AA3E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C246B-1481-46D2-A8DD-A0E919ED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C7196D4-BAA4-419A-B1B2-80137120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9D9AEC3-2B71-4343-ACA1-3013F000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15D516D-F1F9-448C-8638-33766FBF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31C2AA2-7522-4FE5-AFF5-693D5502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248D0CD-A3C7-4168-A70B-98C9FD71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5102217-72D7-47D8-86EA-B3832E69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49E5FE6-4B85-4280-B1CD-87748E56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1681229-C936-4C00-8AD1-5D268B8C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9B2FEFE-6476-4C85-99FF-A46FECB5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A43BD92-A40C-4C03-B1C2-9076F243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758B4-9866-4D3A-B271-F9B32CA9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5370F7B-B871-48CB-B72B-7FE1DA64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2511B62-A2E9-4B24-9BFA-2699664A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17549F9-2AE6-438B-AB54-37690F32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6DEBCF6-037B-49A9-95DC-118667BD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09DCD4D-E20A-4030-8AE4-CCBDFB9E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3011BE0-4642-4050-B95B-534671F0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0B59064-5503-4092-9C6D-99ADE266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48A7B2A-7847-4A46-9701-80273252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C254D65-867E-4A54-BF65-1B688B63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CB5731B-B9D8-400A-810B-F1B71B15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96BC6-46B4-4FF6-82A8-FFCB64C1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04A0089-7C6D-41D0-BB7A-7874C4D5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8618E7B-2743-428A-BC4D-377AA606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55EF3A3-85F4-4128-AB25-09083711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34117F9-E8A1-4565-806D-428AEE61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D4DFE26-5535-40F1-B220-02880EC6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F88C59E-6118-4BB9-8F8E-E5608364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515443-B8A8-4EF9-B939-A9F4460F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5E473E7-F74B-4ABB-9E50-4766A489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57F0A31-1458-4B2E-A156-8EFF4133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23B46D5-5DC8-4CA1-9B76-6ABA7128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375D4-39F3-4E9A-8EB8-20C4C59D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C01F5DA-EFF2-494D-9A34-9AACBE7C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51580E2-A5E5-4B96-8B92-62DF8412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C6BAFBC-839D-42D9-A978-49617E0E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08C1A57-C961-403E-B7EE-D05246AE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11FCF11-93F6-4F71-8FEC-159BF745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5B2335C-C7B6-42B4-9871-CD842D1B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FF8EF21-F8F0-44B2-A3AF-5C2CE073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938B315-9457-46E2-BB1E-BF5DD5B9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3DC28DD-CDE3-4626-BF5C-65903BBE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578A516-F55B-4048-9035-255D3088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49B06-E4C4-45B5-873E-9EC4F707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62919E8-9CE2-4919-AC7C-839D0677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45F9A8-E99E-465A-B6B9-0A4261C1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3F454B3-5A1E-4254-AFF0-7E4D7878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1E0321D-D1BA-4150-A1F0-D542C44F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DAAF3C5-E831-4221-BCEE-7227F2DF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7C5D9FE-4409-4918-BFDD-78381FDF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99B0AB2-1928-4AB2-B2B1-C374E6D3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731F445-3450-4DBE-9643-5B6E38C5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2201430-7613-433E-9627-8C1A115E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E09FE20-8AF2-46F3-95EB-B6CD198D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81397-7A48-4797-9FDF-C1ECE66E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7493707-F685-4A59-9C68-AB5838F6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EAD4DFB-72D2-4C89-BF5C-A06226F7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9A49DFF-4F6E-49EA-9555-BC78C826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09BA0E5-D99B-41F1-A745-2E27F09F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7EC9091-BC41-4265-9A05-DA66B07D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3C32E86-9F65-4FD4-A732-2D284171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B37FBE0-305C-4931-B420-C217653C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167DFBE-193C-4BDA-8EBF-6282F93C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C4D965B-8981-427B-AF2A-8876BE0D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F6A794C-722F-4A80-B546-E23BFB32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21152-DD50-44D7-8B30-5866B4D8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F00D7E1-2F85-436D-AE76-81E49116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4B3F4E-E1C6-4A81-8670-171AD20C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D0C63A9-2E9E-414D-9FFA-B138D131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C7637DD-F925-454C-8E9B-6B64A7CE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7B65613-137F-4DF6-A996-2468F75F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341F209-183E-472E-AB0A-A1AFA61C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9A42D12-2F70-4170-8ED8-4A03E6F9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59C4ABA-FD5C-4FB8-9239-8E91C1B1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000C278-652C-4B9C-B21E-DD7BA6F0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5C78BE4-5141-47AD-8D57-C676F080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23BA7-8E34-4D3D-875A-3E12FCC4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11C1B7A-A266-47FE-88CF-CCC28978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19B2699-4A40-4F05-8183-95AA7F38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C6BA6C7-9DD7-497B-BFC2-CEDD7FE9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AC4D893-63DA-46E1-8FAC-3E55881D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62E40B2-F4EE-4AE1-8450-F78437D0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A6E52C8-EF57-4C35-83AA-CF8D91CF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244944E-32CD-4CF5-9C7D-5C623EB2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ACC3FEB-3535-44F7-87F4-1FAA3B55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74A2112-2A18-401C-A089-278CE778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1C16B13-2E71-4B3F-AEBA-B9930DE8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4412B-7F48-4295-9BB9-4BEADCFC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10BF153-B376-44EA-83DD-8CB04344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BE193D4-B145-4294-A75B-944BBF33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C250B0F-5864-4217-A142-63006183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97EF1A1-CE67-4965-96AD-14147DF8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B6C4F74-264D-4DE6-B5BD-2C1846FB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F99D6C8-CBD9-47FF-9CC5-F47BEC1B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6895E6A-5B0B-4BBF-ABD9-55D1D2C9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DA458B7-0A28-4DBF-A8E8-3D4E6F1A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463DF87-BABF-4ABD-A9FE-D74923FC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A33E0C1-5731-4D9C-848B-16BD3252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DBF-0F7D-4EAF-B8D7-BD717A94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5CE58-C73E-4035-87E2-30FCE379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4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4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3E59F33-E114-4D96-9026-A77E294C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8FE1F-92CE-4100-A5BE-3748DDF9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8B275-1FD7-47A5-8916-CCE40868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90E53-672A-4A38-9C8E-46220117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74E43-24D7-428E-9A79-0DC229A5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0439B-4A27-4F8F-B6BB-B4EA095A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14CFA-1C77-4A86-BF28-0FEE56EF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E955F-485C-4F0F-9979-C9165F95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1A20E-C058-453B-A639-ABE816EA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CF230-3283-4664-90A5-17C89D82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194-21F3-4A40-BB48-3CDE3FDE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E5D01-4163-4D4A-8576-C6BBDF7D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33196-6E93-448C-B90C-1AF55787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89876-0C1F-4851-AB93-B535575A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5E532-CDFE-4DCE-BDE5-0B67017A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46EAD-E7F6-4BF3-B29F-190D232F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D53A1-08CB-4152-ABEA-5950DDC7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28F67-CDED-440F-80F0-7F557ED7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4432D-B15F-4FD8-973B-44E18E5C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23B85-B0DB-4785-AB74-40ADC960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A19D8-429A-48AD-BFD6-12C814DB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895-AA43-4901-B239-8A331254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671B8-56E3-474A-84EA-B83EA4D1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F2151-37AE-47FE-AE41-A94DDB19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87053-0021-4460-AB15-D4B86684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7D5CD-F909-4EB9-B49B-BBF69F8C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7EADE-8A89-41FF-A436-9CA947CE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E511D-EB31-4767-B3C6-9F17BE96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CB457-D7F6-4875-AD81-B0DB32E2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47F2D-D085-444D-A856-100276CE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D5570-F1FC-4637-8200-4EC21520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03846-7891-496E-A9A1-5D762AAF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C20-E0CE-4E1D-8F8C-14A9C3DE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CB4ED-337F-409D-AFA6-6A873D8B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7C881-3A39-4635-B0E3-B7C5A4B0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265D2-9FF8-4BAF-ADB9-317386C9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541E2-86AA-4671-9490-5C2AC4A4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2D7C3-2AC0-4979-B36E-CB6D2E26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2BF8B-E689-4B0F-AA3B-3A1151EC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318CA-BF61-4E18-ADEF-144197FB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A99FD-5971-48FE-8E33-D034056A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673D5-6358-42DD-B4FC-3AF53754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3C61B-1098-4138-A051-32EFA8B9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BE19-BB78-4E25-8E9D-28BAEA91669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1343-CC09-4E3D-8E0E-DCF8EA1E21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D36B-6A1E-41E9-8376-6589B4F5242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2E7F-9DAD-451D-BAE5-AE9974B6BD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FE57-D2AD-4990-B42A-E9663B4616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DBC7-1131-44C6-A08F-217540C924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AFDF-1D3F-472F-934E-A3B4346CB0F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0F76-0D27-48B8-868F-F39F409C9C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6845-AB50-4C81-ACD2-2E2AFF2DC5A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ED51-B5AE-4FD5-AF24-48890B3673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B556-0BCA-429B-A855-269B67031E1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3B50-18B7-4416-A6D6-56E0218340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BEE2-12CD-4490-A690-BCECCC0EC9C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3353-C570-4BB2-B01E-C3162E43DA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图片 7" descr=""/>
          <p:cNvPicPr/>
          <p:nvPr/>
        </p:nvPicPr>
        <p:blipFill>
          <a:blip r:embed="rId2"/>
          <a:srcRect l="400" t="1911" r="0" b="0"/>
          <a:stretch/>
        </p:blipFill>
        <p:spPr>
          <a:xfrm>
            <a:off x="0" y="0"/>
            <a:ext cx="9142560" cy="68436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020A-97FE-4BFF-BAD4-4F19049E1F64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0F90-B2B8-4A5F-9C22-B4FD691540DB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8602-B5BA-463D-8870-796D43D4D2BE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7823-7E23-4057-9BDD-E46C6F9DAFA5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218F-FE2A-48E1-AD76-6FDDF2CED438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4148-F454-47DB-B693-76F93A8DC2E7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1BC9-A605-4860-ABD9-ED2F3DC4E247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6939-76B6-4B9E-A559-9118A7D2AD87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AD7D-856F-49F3-8279-85983431A9E4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F3BF-46B2-4416-85B1-1FEB5B838EEA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3BFA-9345-4614-80A9-23C3EF521E43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B1AD-FF5D-4BFF-ABEE-EAAF8004F16A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8B3F-DE5A-433D-B3A6-69DB8288C795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1470-FD10-4310-BF46-B9A4F862B609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BEC9-1A5F-40C3-BA78-A3861E3B7EEE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A846-94CF-4F3B-A635-EF1D70FD3C17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C50A-0DC9-4531-B27D-D8BD203E1877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FE27-77FF-4561-95EF-AC87CFF8D31C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3B0D-260F-486D-A520-BFE5A986EB79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F177-ED50-42D8-93D0-7160E126E66B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471B-1D2C-4F60-8CF9-1B24EB75B152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FD3A-DF52-44CE-9D7C-F213CEA752A0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08DE-9AC1-4FA3-B007-5413113F283C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6A2A-0E8B-4F12-A1DB-B996D9FE214B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8" descr=""/>
          <p:cNvPicPr/>
          <p:nvPr/>
        </p:nvPicPr>
        <p:blipFill>
          <a:blip r:embed="rId2"/>
          <a:stretch/>
        </p:blipFill>
        <p:spPr>
          <a:xfrm>
            <a:off x="4502160" y="1341360"/>
            <a:ext cx="4641840" cy="5516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9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084" name="直接连接符 10"/>
          <p:cNvSpPr/>
          <p:nvPr/>
        </p:nvSpPr>
        <p:spPr>
          <a:xfrm>
            <a:off x="1008000" y="2894040"/>
            <a:ext cx="4373640" cy="0"/>
          </a:xfrm>
          <a:prstGeom prst="line">
            <a:avLst/>
          </a:prstGeom>
          <a:ln w="1908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10FE-8390-4C2F-B611-64AF1ABDF44F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8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8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3487-224A-4521-B4FF-5A6ED60483AD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82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68FB-9055-413F-B97C-951F22251E3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83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84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F620-0A32-4AEA-99F5-B66E093E417D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171" name="椭圆 8"/>
          <p:cNvSpPr/>
          <p:nvPr/>
        </p:nvSpPr>
        <p:spPr>
          <a:xfrm>
            <a:off x="7648560" y="2840040"/>
            <a:ext cx="330120" cy="330120"/>
          </a:xfrm>
          <a:prstGeom prst="ellipse">
            <a:avLst/>
          </a:prstGeom>
          <a:solidFill>
            <a:srgbClr val="a6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直接连接符 7"/>
          <p:cNvSpPr/>
          <p:nvPr/>
        </p:nvSpPr>
        <p:spPr>
          <a:xfrm>
            <a:off x="1336680" y="3325680"/>
            <a:ext cx="5851440" cy="0"/>
          </a:xfrm>
          <a:prstGeom prst="line">
            <a:avLst/>
          </a:prstGeom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椭圆 10"/>
          <p:cNvSpPr/>
          <p:nvPr/>
        </p:nvSpPr>
        <p:spPr>
          <a:xfrm>
            <a:off x="7170840" y="2905200"/>
            <a:ext cx="657000" cy="657000"/>
          </a:xfrm>
          <a:prstGeom prst="ellipse">
            <a:avLst/>
          </a:prstGeom>
          <a:noFill/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椭圆 11"/>
          <p:cNvSpPr/>
          <p:nvPr/>
        </p:nvSpPr>
        <p:spPr>
          <a:xfrm>
            <a:off x="7265880" y="3000240"/>
            <a:ext cx="466920" cy="466920"/>
          </a:xfrm>
          <a:prstGeom prst="ellipse">
            <a:avLst/>
          </a:prstGeom>
          <a:noFill/>
          <a:ln w="12600">
            <a:solidFill>
              <a:srgbClr val="28c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椭圆 12"/>
          <p:cNvSpPr/>
          <p:nvPr/>
        </p:nvSpPr>
        <p:spPr>
          <a:xfrm>
            <a:off x="7297560" y="3032280"/>
            <a:ext cx="403560" cy="403200"/>
          </a:xfrm>
          <a:prstGeom prst="ellipse">
            <a:avLst/>
          </a:prstGeom>
          <a:noFill/>
          <a:ln w="6480">
            <a:solidFill>
              <a:srgbClr val="a6e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椭圆 13"/>
          <p:cNvSpPr/>
          <p:nvPr/>
        </p:nvSpPr>
        <p:spPr>
          <a:xfrm>
            <a:off x="7381800" y="311796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8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42B2-C856-42BE-8CA7-3E5C893B9DE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8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8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725E-D775-4C96-AA94-DD6310DABAC5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99FB-34ED-40B9-89C9-309FD2EECFF4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9C69-AD77-4953-8C1A-74E02BCF569B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88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9BEB-8AEC-4C22-AEF3-69F7AAA581D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89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90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990B-E6D3-4D17-A89B-C5339E958C8D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dt" idx="91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2B40-3B04-4117-9CBC-7B8AE96350E3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ftr" idx="92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sldNum" idx="93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DDE0-8652-44F5-B80D-543CBB45B709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06" name="椭圆 8"/>
          <p:cNvSpPr/>
          <p:nvPr/>
        </p:nvSpPr>
        <p:spPr>
          <a:xfrm>
            <a:off x="2997360" y="1376280"/>
            <a:ext cx="3593880" cy="3595680"/>
          </a:xfrm>
          <a:prstGeom prst="ellipse">
            <a:avLst/>
          </a:prstGeom>
          <a:noFill/>
          <a:ln w="1260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椭圆 9"/>
          <p:cNvSpPr/>
          <p:nvPr/>
        </p:nvSpPr>
        <p:spPr>
          <a:xfrm>
            <a:off x="2833560" y="1427040"/>
            <a:ext cx="3519720" cy="35179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椭圆 10"/>
          <p:cNvSpPr/>
          <p:nvPr/>
        </p:nvSpPr>
        <p:spPr>
          <a:xfrm>
            <a:off x="7866000" y="2457360"/>
            <a:ext cx="506520" cy="5065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椭圆 11"/>
          <p:cNvSpPr/>
          <p:nvPr/>
        </p:nvSpPr>
        <p:spPr>
          <a:xfrm>
            <a:off x="6473880" y="1719360"/>
            <a:ext cx="231840" cy="23184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椭圆 12"/>
          <p:cNvSpPr/>
          <p:nvPr/>
        </p:nvSpPr>
        <p:spPr>
          <a:xfrm>
            <a:off x="1990800" y="4508640"/>
            <a:ext cx="506160" cy="50616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椭圆 13"/>
          <p:cNvSpPr/>
          <p:nvPr/>
        </p:nvSpPr>
        <p:spPr>
          <a:xfrm>
            <a:off x="3780000" y="518472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4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160C-668C-49ED-A49B-F385A57DB01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5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6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5890-6613-48DD-8B77-027D382BDB9C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7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1B29-0769-4843-B5ED-9FC957AC52B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98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9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FEA0-EEEF-4A4F-BF18-F78A5252D924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98" name="矩形 8"/>
          <p:cNvSpPr/>
          <p:nvPr/>
        </p:nvSpPr>
        <p:spPr>
          <a:xfrm>
            <a:off x="3727440" y="2633760"/>
            <a:ext cx="4721400" cy="56880"/>
          </a:xfrm>
          <a:prstGeom prst="rect">
            <a:avLst/>
          </a:prstGeom>
          <a:solidFill>
            <a:srgbClr val="d2f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24E2-DC5A-4323-9CA6-2E72AB6A499B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E676-625D-4A7F-922D-4C0F8C87FC69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FF34-07C6-4E83-B09F-485311B158AC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7599-4596-4E37-A544-4369F75296E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dt" idx="106"/>
          </p:nvPr>
        </p:nvSpPr>
        <p:spPr>
          <a:xfrm>
            <a:off x="62820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4FED-5385-4842-8E63-2409B385F7B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 type="ftr" idx="107"/>
          </p:nvPr>
        </p:nvSpPr>
        <p:spPr>
          <a:xfrm>
            <a:off x="3029040" y="6512040"/>
            <a:ext cx="308592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 type="sldNum" idx="108"/>
          </p:nvPr>
        </p:nvSpPr>
        <p:spPr>
          <a:xfrm>
            <a:off x="645768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EE03-9BEE-4EA9-8B4A-3659EFCC5D59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dt" idx="10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B94D-98C7-44F9-A8A2-47C3449958A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ftr" idx="11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sldNum" idx="11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16DC-F050-44DC-9110-5B896493EE87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 type="dt" idx="112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8625-DBAA-4A1A-A189-933E42168C73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 type="ftr" idx="113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 type="sldNum" idx="114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0705-326D-4764-985A-782907F6DCE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2" name="Picture 8" descr=""/>
          <p:cNvPicPr/>
          <p:nvPr/>
        </p:nvPicPr>
        <p:blipFill>
          <a:blip r:embed="rId2"/>
          <a:stretch/>
        </p:blipFill>
        <p:spPr>
          <a:xfrm>
            <a:off x="4502160" y="1341360"/>
            <a:ext cx="4641840" cy="551664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9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614" name="直接连接符 10"/>
          <p:cNvSpPr/>
          <p:nvPr/>
        </p:nvSpPr>
        <p:spPr>
          <a:xfrm>
            <a:off x="1008000" y="2894040"/>
            <a:ext cx="4373640" cy="0"/>
          </a:xfrm>
          <a:prstGeom prst="line">
            <a:avLst/>
          </a:prstGeom>
          <a:ln w="1908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dt" idx="11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868F-1EDE-422D-9BF9-C795EF18434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ftr" idx="11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 type="sldNum" idx="11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9168-B84E-4AAE-B92E-B780E4C8533A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0935-1E3B-4842-9E8C-EBD2CDEA32E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D13E-5ED3-4B8F-8DD6-3408DDD9EA3F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 type="dt" idx="118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6D1F-A040-4F2B-991B-F64C3EF2041F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 type="ftr" idx="119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 type="sldNum" idx="120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D726-F910-4985-93B3-9F278AF8960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0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01" name="椭圆 8"/>
          <p:cNvSpPr/>
          <p:nvPr/>
        </p:nvSpPr>
        <p:spPr>
          <a:xfrm>
            <a:off x="7648560" y="2840040"/>
            <a:ext cx="330120" cy="330120"/>
          </a:xfrm>
          <a:prstGeom prst="ellipse">
            <a:avLst/>
          </a:prstGeom>
          <a:solidFill>
            <a:srgbClr val="a6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直接连接符 7"/>
          <p:cNvSpPr/>
          <p:nvPr/>
        </p:nvSpPr>
        <p:spPr>
          <a:xfrm>
            <a:off x="1336680" y="3325680"/>
            <a:ext cx="5851440" cy="0"/>
          </a:xfrm>
          <a:prstGeom prst="line">
            <a:avLst/>
          </a:prstGeom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椭圆 10"/>
          <p:cNvSpPr/>
          <p:nvPr/>
        </p:nvSpPr>
        <p:spPr>
          <a:xfrm>
            <a:off x="7170840" y="2905200"/>
            <a:ext cx="657000" cy="657000"/>
          </a:xfrm>
          <a:prstGeom prst="ellipse">
            <a:avLst/>
          </a:prstGeom>
          <a:noFill/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椭圆 11"/>
          <p:cNvSpPr/>
          <p:nvPr/>
        </p:nvSpPr>
        <p:spPr>
          <a:xfrm>
            <a:off x="7265880" y="3000240"/>
            <a:ext cx="466920" cy="466920"/>
          </a:xfrm>
          <a:prstGeom prst="ellipse">
            <a:avLst/>
          </a:prstGeom>
          <a:noFill/>
          <a:ln w="12600">
            <a:solidFill>
              <a:srgbClr val="28c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椭圆 12"/>
          <p:cNvSpPr/>
          <p:nvPr/>
        </p:nvSpPr>
        <p:spPr>
          <a:xfrm>
            <a:off x="7297560" y="3032280"/>
            <a:ext cx="403560" cy="403200"/>
          </a:xfrm>
          <a:prstGeom prst="ellipse">
            <a:avLst/>
          </a:prstGeom>
          <a:noFill/>
          <a:ln w="6480">
            <a:solidFill>
              <a:srgbClr val="a6e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椭圆 13"/>
          <p:cNvSpPr/>
          <p:nvPr/>
        </p:nvSpPr>
        <p:spPr>
          <a:xfrm>
            <a:off x="7381800" y="311796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 type="dt" idx="121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E2D3-AFB8-4E34-A911-233263700BFA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 type="ftr" idx="122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 type="sldNum" idx="123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FC1F-18A0-49F8-9DD2-19C195D2B364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 type="dt" idx="124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D466-D444-42D2-B163-76BC43D89DDB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 type="ftr" idx="125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 type="sldNum" idx="126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EFDB-D4B7-4ED8-8F52-1804541FDA33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dt" idx="127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19CA-FBB7-4D6F-9673-35509C568615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 type="ftr" idx="128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 type="sldNum" idx="129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3300-A523-4475-9BA0-0EE3A2E5C428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836" name="椭圆 8"/>
          <p:cNvSpPr/>
          <p:nvPr/>
        </p:nvSpPr>
        <p:spPr>
          <a:xfrm>
            <a:off x="2997360" y="1376280"/>
            <a:ext cx="3593880" cy="3595680"/>
          </a:xfrm>
          <a:prstGeom prst="ellipse">
            <a:avLst/>
          </a:prstGeom>
          <a:noFill/>
          <a:ln w="1260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椭圆 9"/>
          <p:cNvSpPr/>
          <p:nvPr/>
        </p:nvSpPr>
        <p:spPr>
          <a:xfrm>
            <a:off x="2833560" y="1427040"/>
            <a:ext cx="3519720" cy="35179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椭圆 10"/>
          <p:cNvSpPr/>
          <p:nvPr/>
        </p:nvSpPr>
        <p:spPr>
          <a:xfrm>
            <a:off x="7866000" y="2457360"/>
            <a:ext cx="506520" cy="5065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椭圆 11"/>
          <p:cNvSpPr/>
          <p:nvPr/>
        </p:nvSpPr>
        <p:spPr>
          <a:xfrm>
            <a:off x="6473880" y="1719360"/>
            <a:ext cx="231840" cy="23184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椭圆 12"/>
          <p:cNvSpPr/>
          <p:nvPr/>
        </p:nvSpPr>
        <p:spPr>
          <a:xfrm>
            <a:off x="1990800" y="4508640"/>
            <a:ext cx="506160" cy="50616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椭圆 13"/>
          <p:cNvSpPr/>
          <p:nvPr/>
        </p:nvSpPr>
        <p:spPr>
          <a:xfrm>
            <a:off x="3780000" y="518472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dt" idx="13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7D24-9AA3-43F8-8134-584B66ABD9F6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ftr" idx="13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 type="sldNum" idx="13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0299-438D-405A-8363-DF268C60A4DF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88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33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0D05-871B-4BCF-9F1B-4374E49CF2C8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34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35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6542-402F-4F48-B7A0-D8EDC9224E35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928" name="矩形 8"/>
          <p:cNvSpPr/>
          <p:nvPr/>
        </p:nvSpPr>
        <p:spPr>
          <a:xfrm>
            <a:off x="3727440" y="2633760"/>
            <a:ext cx="4721400" cy="56880"/>
          </a:xfrm>
          <a:prstGeom prst="rect">
            <a:avLst/>
          </a:prstGeom>
          <a:solidFill>
            <a:srgbClr val="d2f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136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62CB-9972-46B6-A4A2-2F6BCA35A80C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137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138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3B0D-2497-4A30-ACF0-0417FCB3ECB9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dt" idx="13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D184-5583-445A-AD80-ABC020D8FB5F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 type="ftr" idx="14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 type="sldNum" idx="14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4DB1-2307-4294-A822-4E7C4293823B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01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 type="dt" idx="142"/>
          </p:nvPr>
        </p:nvSpPr>
        <p:spPr>
          <a:xfrm>
            <a:off x="62820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7EF3-AAC2-45FD-81D5-BB2631138695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 type="ftr" idx="143"/>
          </p:nvPr>
        </p:nvSpPr>
        <p:spPr>
          <a:xfrm>
            <a:off x="3029040" y="6512040"/>
            <a:ext cx="308592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 type="sldNum" idx="144"/>
          </p:nvPr>
        </p:nvSpPr>
        <p:spPr>
          <a:xfrm>
            <a:off x="645768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0C50-B86A-4850-8505-98FA53F262B5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05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 type="dt" idx="14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EACA-B556-4636-B6D8-31373737247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 type="ftr" idx="14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 type="sldNum" idx="14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C9B2-7CB2-4877-BEA5-5537E5EDD63A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EF93-870D-4C99-A74B-6FA91B834A2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7534-8716-4025-AB00-00B029F1A3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 type="dt" idx="148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6DDE-3124-4CD9-83F6-3EFB22B8496E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 type="ftr" idx="149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 type="sldNum" idx="150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082C-585B-4F0C-852A-39D5A341DB05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0D87-DA69-4D6E-8ECC-9C898667A60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81FE-1BA9-4CEC-B967-B2F07FCCA9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B2FD-486C-49A7-A25C-6258516584C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3AEC-14E7-4F34-AD81-ED49A34D4E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61C8-8B7D-46E7-B634-4124BDC06E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3FB0-3895-4E01-A916-192AF6E501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1BDF-E51A-400E-9C9B-B0B3B981402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E964-2CC9-4285-90FA-A3062D80E1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4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3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4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5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3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2" name="Picture 44" descr=""/>
          <p:cNvPicPr/>
          <p:nvPr/>
        </p:nvPicPr>
        <p:blipFill>
          <a:blip r:embed="rId1"/>
          <a:stretch/>
        </p:blipFill>
        <p:spPr>
          <a:xfrm>
            <a:off x="2328840" y="2428920"/>
            <a:ext cx="4486320" cy="1571760"/>
          </a:xfrm>
          <a:prstGeom prst="rect">
            <a:avLst/>
          </a:prstGeom>
          <a:ln w="0">
            <a:noFill/>
          </a:ln>
        </p:spPr>
      </p:pic>
      <p:sp>
        <p:nvSpPr>
          <p:cNvPr id="2143" name="Text Box 4"/>
          <p:cNvSpPr/>
          <p:nvPr/>
        </p:nvSpPr>
        <p:spPr>
          <a:xfrm>
            <a:off x="1225440" y="135720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七单元  时、分、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4"/>
          <p:cNvSpPr/>
          <p:nvPr/>
        </p:nvSpPr>
        <p:spPr>
          <a:xfrm>
            <a:off x="1300320" y="492588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成都棠外附小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方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7" name="内容占位符 37895" descr="ANI_023"/>
          <p:cNvPicPr/>
          <p:nvPr/>
        </p:nvPicPr>
        <p:blipFill>
          <a:blip r:embed="rId1"/>
          <a:stretch/>
        </p:blipFill>
        <p:spPr>
          <a:xfrm>
            <a:off x="744480" y="2133720"/>
            <a:ext cx="1743120" cy="2506680"/>
          </a:xfrm>
          <a:prstGeom prst="rect">
            <a:avLst/>
          </a:prstGeom>
          <a:ln w="0">
            <a:noFill/>
          </a:ln>
        </p:spPr>
      </p:pic>
      <p:pic>
        <p:nvPicPr>
          <p:cNvPr id="2358" name="内容占位符 37896" descr=""/>
          <p:cNvPicPr/>
          <p:nvPr/>
        </p:nvPicPr>
        <p:blipFill>
          <a:blip r:embed="rId2"/>
          <a:stretch/>
        </p:blipFill>
        <p:spPr>
          <a:xfrm>
            <a:off x="2940120" y="2413080"/>
            <a:ext cx="2400120" cy="1679400"/>
          </a:xfrm>
          <a:prstGeom prst="rect">
            <a:avLst/>
          </a:prstGeom>
          <a:ln w="0">
            <a:noFill/>
          </a:ln>
        </p:spPr>
      </p:pic>
      <p:pic>
        <p:nvPicPr>
          <p:cNvPr id="2359" name="内容占位符 37897" descr="ANI_022"/>
          <p:cNvPicPr/>
          <p:nvPr/>
        </p:nvPicPr>
        <p:blipFill>
          <a:blip r:embed="rId3"/>
          <a:stretch/>
        </p:blipFill>
        <p:spPr>
          <a:xfrm>
            <a:off x="5794200" y="2763720"/>
            <a:ext cx="2711520" cy="1735200"/>
          </a:xfrm>
          <a:prstGeom prst="rect">
            <a:avLst/>
          </a:prstGeom>
          <a:ln w="0">
            <a:noFill/>
          </a:ln>
        </p:spPr>
      </p:pic>
      <p:sp>
        <p:nvSpPr>
          <p:cNvPr id="2360" name="文本框 37898"/>
          <p:cNvSpPr/>
          <p:nvPr/>
        </p:nvSpPr>
        <p:spPr>
          <a:xfrm>
            <a:off x="1041840" y="519588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文本框 37899"/>
          <p:cNvSpPr/>
          <p:nvPr/>
        </p:nvSpPr>
        <p:spPr>
          <a:xfrm>
            <a:off x="3348360" y="45813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7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文本框 37900"/>
          <p:cNvSpPr/>
          <p:nvPr/>
        </p:nvSpPr>
        <p:spPr>
          <a:xfrm>
            <a:off x="6173640" y="51195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游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0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3" name="组合 37901"/>
          <p:cNvGrpSpPr/>
          <p:nvPr/>
        </p:nvGrpSpPr>
        <p:grpSpPr>
          <a:xfrm>
            <a:off x="1908000" y="836640"/>
            <a:ext cx="5334120" cy="1066680"/>
            <a:chOff x="1908000" y="836640"/>
            <a:chExt cx="5334120" cy="1066680"/>
          </a:xfrm>
        </p:grpSpPr>
        <p:sp>
          <p:nvSpPr>
            <p:cNvPr id="2364" name="椭圆 37902"/>
            <p:cNvSpPr/>
            <p:nvPr/>
          </p:nvSpPr>
          <p:spPr>
            <a:xfrm>
              <a:off x="1908000" y="836640"/>
              <a:ext cx="5334120" cy="1066680"/>
            </a:xfrm>
            <a:prstGeom prst="ellipse">
              <a:avLst/>
            </a:prstGeom>
            <a:gradFill rotWithShape="0">
              <a:gsLst>
                <a:gs pos="0">
                  <a:srgbClr val="fef7fc"/>
                </a:gs>
                <a:gs pos="100000">
                  <a:srgbClr val="fbcde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文本框 37903"/>
            <p:cNvSpPr/>
            <p:nvPr/>
          </p:nvSpPr>
          <p:spPr>
            <a:xfrm>
              <a:off x="2052360" y="836640"/>
              <a:ext cx="513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9900"/>
                  </a:solidFill>
                  <a:latin typeface="Arial"/>
                  <a:ea typeface="隶书"/>
                </a:rPr>
                <a:t>一 分能干什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338472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中央电视台播音员大约可以播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字。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67" name="Picture 4" descr="新闻"/>
          <p:cNvPicPr/>
          <p:nvPr/>
        </p:nvPicPr>
        <p:blipFill>
          <a:blip r:embed="rId1"/>
          <a:stretch/>
        </p:blipFill>
        <p:spPr>
          <a:xfrm>
            <a:off x="4500720" y="765000"/>
            <a:ext cx="42624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831680" y="5536800"/>
            <a:ext cx="660564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汽车大约可以跑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0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。</a:t>
            </a:r>
            <a:br>
              <a:rPr sz="3200"/>
            </a:b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69" name="Picture 4" descr="汽车"/>
          <p:cNvPicPr/>
          <p:nvPr/>
        </p:nvPicPr>
        <p:blipFill>
          <a:blip r:embed="rId1"/>
          <a:stretch/>
        </p:blipFill>
        <p:spPr>
          <a:xfrm>
            <a:off x="1579680" y="99684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076360" y="1052280"/>
            <a:ext cx="352908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激光大约可以走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千米。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71" name="Picture 4" descr="激光"/>
          <p:cNvPicPr/>
          <p:nvPr/>
        </p:nvPicPr>
        <p:blipFill>
          <a:blip r:embed="rId1"/>
          <a:stretch/>
        </p:blipFill>
        <p:spPr>
          <a:xfrm>
            <a:off x="468360" y="134136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Picture 9" descr="u=788106986,66757298&amp;fm=0&amp;gp=0"/>
          <p:cNvPicPr/>
          <p:nvPr/>
        </p:nvPicPr>
        <p:blipFill>
          <a:blip r:embed="rId1"/>
          <a:stretch/>
        </p:blipFill>
        <p:spPr>
          <a:xfrm>
            <a:off x="1501920" y="1089000"/>
            <a:ext cx="5734080" cy="4140360"/>
          </a:xfrm>
          <a:prstGeom prst="rect">
            <a:avLst/>
          </a:prstGeom>
          <a:ln w="0">
            <a:noFill/>
          </a:ln>
        </p:spPr>
      </p:pic>
      <p:sp>
        <p:nvSpPr>
          <p:cNvPr id="2373" name="Rectangle 10"/>
          <p:cNvSpPr/>
          <p:nvPr/>
        </p:nvSpPr>
        <p:spPr>
          <a:xfrm>
            <a:off x="2334240" y="5229360"/>
            <a:ext cx="506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宋体"/>
              </a:rPr>
              <a:t>猎豹</a:t>
            </a:r>
            <a:r>
              <a:rPr b="1" lang="en-US" sz="4000" spc="-1" strike="noStrike">
                <a:solidFill>
                  <a:srgbClr val="d72f0d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d72f0d"/>
                </a:solidFill>
                <a:latin typeface="Arial"/>
                <a:ea typeface="宋体"/>
              </a:rPr>
              <a:t>分钟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宋体"/>
              </a:rPr>
              <a:t>大约能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0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4" name="Picture 3" descr=""/>
          <p:cNvPicPr/>
          <p:nvPr/>
        </p:nvPicPr>
        <p:blipFill>
          <a:blip r:embed="rId1"/>
          <a:stretch/>
        </p:blipFill>
        <p:spPr>
          <a:xfrm>
            <a:off x="-1440" y="1166760"/>
            <a:ext cx="8883360" cy="41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流程图: 可选过程 34818"/>
          <p:cNvSpPr/>
          <p:nvPr/>
        </p:nvSpPr>
        <p:spPr>
          <a:xfrm>
            <a:off x="5364000" y="2050200"/>
            <a:ext cx="2519640" cy="132876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b75c"/>
                </a:solidFill>
                <a:latin typeface="Arial"/>
                <a:ea typeface="楷体_GB2312"/>
              </a:rPr>
              <a:t>你可以背诵几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b75c"/>
                </a:solidFill>
                <a:latin typeface="Arial"/>
                <a:ea typeface="楷体_GB2312"/>
              </a:rPr>
              <a:t>乘法口诀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b4b75c"/>
                </a:solidFill>
                <a:latin typeface="Arial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圆角矩形 34819"/>
          <p:cNvSpPr/>
          <p:nvPr/>
        </p:nvSpPr>
        <p:spPr>
          <a:xfrm>
            <a:off x="4648320" y="2971800"/>
            <a:ext cx="38098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圆角矩形 34820"/>
          <p:cNvSpPr/>
          <p:nvPr/>
        </p:nvSpPr>
        <p:spPr>
          <a:xfrm>
            <a:off x="3886200" y="1676520"/>
            <a:ext cx="4800600" cy="53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8" name="组合 34821"/>
          <p:cNvGrpSpPr/>
          <p:nvPr/>
        </p:nvGrpSpPr>
        <p:grpSpPr>
          <a:xfrm>
            <a:off x="5076720" y="4221000"/>
            <a:ext cx="3342960" cy="1009800"/>
            <a:chOff x="5076720" y="4221000"/>
            <a:chExt cx="3342960" cy="1009800"/>
          </a:xfrm>
        </p:grpSpPr>
        <p:sp>
          <p:nvSpPr>
            <p:cNvPr id="2379" name="圆角矩形 34822"/>
            <p:cNvSpPr/>
            <p:nvPr/>
          </p:nvSpPr>
          <p:spPr>
            <a:xfrm>
              <a:off x="5220000" y="4221000"/>
              <a:ext cx="3199680" cy="100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cffd9"/>
                </a:gs>
                <a:gs pos="100000">
                  <a:srgbClr val="ccff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文本框 34823"/>
            <p:cNvSpPr/>
            <p:nvPr/>
          </p:nvSpPr>
          <p:spPr>
            <a:xfrm>
              <a:off x="5076720" y="4437360"/>
              <a:ext cx="223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99"/>
                  </a:solidFill>
                  <a:latin typeface="楷体_GB2312"/>
                  <a:ea typeface="楷体_GB2312"/>
                </a:rPr>
                <a:t>你能画几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笑脸 34824"/>
            <p:cNvSpPr/>
            <p:nvPr/>
          </p:nvSpPr>
          <p:spPr>
            <a:xfrm>
              <a:off x="7380000" y="4365720"/>
              <a:ext cx="791640" cy="770400"/>
            </a:xfrm>
            <a:prstGeom prst="smileyFace">
              <a:avLst>
                <a:gd name="adj" fmla="val 4653"/>
              </a:avLst>
            </a:prstGeom>
            <a:solidFill>
              <a:srgbClr val="ffcccc"/>
            </a:solidFill>
            <a:ln w="44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组合 34825"/>
          <p:cNvGrpSpPr/>
          <p:nvPr/>
        </p:nvGrpSpPr>
        <p:grpSpPr>
          <a:xfrm>
            <a:off x="1070280" y="3530160"/>
            <a:ext cx="3688560" cy="2285640"/>
            <a:chOff x="1070280" y="3530160"/>
            <a:chExt cx="3688560" cy="2285640"/>
          </a:xfrm>
        </p:grpSpPr>
        <p:sp>
          <p:nvSpPr>
            <p:cNvPr id="2383" name="爆炸形 2 34826"/>
            <p:cNvSpPr/>
            <p:nvPr/>
          </p:nvSpPr>
          <p:spPr>
            <a:xfrm rot="540000">
              <a:off x="1187280" y="3789360"/>
              <a:ext cx="3454560" cy="1766880"/>
            </a:xfrm>
            <a:prstGeom prst="irregularSeal2">
              <a:avLst/>
            </a:prstGeom>
            <a:gradFill rotWithShape="0">
              <a:gsLst>
                <a:gs pos="0">
                  <a:srgbClr val="fff9ff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文本框 34827"/>
            <p:cNvSpPr/>
            <p:nvPr/>
          </p:nvSpPr>
          <p:spPr>
            <a:xfrm>
              <a:off x="1556280" y="444960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写几个字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组合 34828"/>
          <p:cNvGrpSpPr/>
          <p:nvPr/>
        </p:nvGrpSpPr>
        <p:grpSpPr>
          <a:xfrm>
            <a:off x="1403280" y="2421000"/>
            <a:ext cx="3313080" cy="790560"/>
            <a:chOff x="1403280" y="2421000"/>
            <a:chExt cx="3313080" cy="790560"/>
          </a:xfrm>
        </p:grpSpPr>
        <p:sp>
          <p:nvSpPr>
            <p:cNvPr id="2386" name="双波形 34829"/>
            <p:cNvSpPr/>
            <p:nvPr/>
          </p:nvSpPr>
          <p:spPr>
            <a:xfrm>
              <a:off x="1403280" y="2421000"/>
              <a:ext cx="3024720" cy="790560"/>
            </a:xfrm>
            <a:custGeom>
              <a:avLst/>
              <a:gdLst>
                <a:gd name="textAreaLeft" fmla="*/ 0 w 3024720"/>
                <a:gd name="textAreaRight" fmla="*/ 3025080 w 3024720"/>
                <a:gd name="textAreaTop" fmla="*/ 102600 h 790560"/>
                <a:gd name="textAreaBottom" fmla="*/ 68796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4"/>
                  </a:moveTo>
                  <a:cubicBezTo>
                    <a:pt x="3600" y="-3570"/>
                    <a:pt x="7200" y="6378"/>
                    <a:pt x="10800" y="1404"/>
                  </a:cubicBezTo>
                  <a:cubicBezTo>
                    <a:pt x="14400" y="-3570"/>
                    <a:pt x="18000" y="6378"/>
                    <a:pt x="21600" y="1404"/>
                  </a:cubicBezTo>
                  <a:lnTo>
                    <a:pt x="21600" y="20196"/>
                  </a:lnTo>
                  <a:cubicBezTo>
                    <a:pt x="18000" y="25170"/>
                    <a:pt x="14400" y="15222"/>
                    <a:pt x="10800" y="20196"/>
                  </a:cubicBezTo>
                  <a:cubicBezTo>
                    <a:pt x="7200" y="25170"/>
                    <a:pt x="3600" y="15222"/>
                    <a:pt x="0" y="20196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文本框 34830"/>
            <p:cNvSpPr/>
            <p:nvPr/>
          </p:nvSpPr>
          <p:spPr>
            <a:xfrm>
              <a:off x="1475640" y="2565000"/>
              <a:ext cx="32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数多少个数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组合 34831"/>
          <p:cNvGrpSpPr/>
          <p:nvPr/>
        </p:nvGrpSpPr>
        <p:grpSpPr>
          <a:xfrm>
            <a:off x="971640" y="117360"/>
            <a:ext cx="5587560" cy="1663920"/>
            <a:chOff x="971640" y="117360"/>
            <a:chExt cx="5587560" cy="1663920"/>
          </a:xfrm>
        </p:grpSpPr>
        <p:pic>
          <p:nvPicPr>
            <p:cNvPr id="2389" name="图片 34832" descr="仙女"/>
            <p:cNvPicPr/>
            <p:nvPr/>
          </p:nvPicPr>
          <p:blipFill>
            <a:blip r:embed="rId2"/>
            <a:stretch/>
          </p:blipFill>
          <p:spPr>
            <a:xfrm>
              <a:off x="971640" y="117360"/>
              <a:ext cx="1944360" cy="166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0" name="组合 34833"/>
            <p:cNvGrpSpPr/>
            <p:nvPr/>
          </p:nvGrpSpPr>
          <p:grpSpPr>
            <a:xfrm>
              <a:off x="3046680" y="578520"/>
              <a:ext cx="3512520" cy="791280"/>
              <a:chOff x="3046680" y="578520"/>
              <a:chExt cx="3512520" cy="791280"/>
            </a:xfrm>
          </p:grpSpPr>
          <p:sp>
            <p:nvSpPr>
              <p:cNvPr id="2391" name="云形标注 34834"/>
              <p:cNvSpPr/>
              <p:nvPr/>
            </p:nvSpPr>
            <p:spPr>
              <a:xfrm>
                <a:off x="3046680" y="578520"/>
                <a:ext cx="3512520" cy="791280"/>
              </a:xfrm>
              <a:prstGeom prst="cloudCallout">
                <a:avLst>
                  <a:gd name="adj1" fmla="val -54981"/>
                  <a:gd name="adj2" fmla="val 3075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4b4b4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92" name="矩形 34835" descr=""/>
              <p:cNvPicPr/>
              <p:nvPr/>
            </p:nvPicPr>
            <p:blipFill>
              <a:blip r:embed="rId4"/>
              <a:stretch/>
            </p:blipFill>
            <p:spPr>
              <a:xfrm>
                <a:off x="3519720" y="642240"/>
                <a:ext cx="2754360" cy="596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393" name="轻音乐 - 一帘幽梦 - 古筝_trans.wav" descr=""/>
          <p:cNvPicPr/>
          <p:nvPr/>
        </p:nvPicPr>
        <p:blipFill>
          <a:blip r:embed="rId5"/>
          <a:stretch/>
        </p:blipFill>
        <p:spPr>
          <a:xfrm>
            <a:off x="684360" y="5896080"/>
            <a:ext cx="358560" cy="358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10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393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393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61048" fill="hold"/>
                                        <p:tgtEl>
                                          <p:spTgt spid="2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矩形 1"/>
          <p:cNvSpPr/>
          <p:nvPr/>
        </p:nvSpPr>
        <p:spPr>
          <a:xfrm>
            <a:off x="971640" y="476280"/>
            <a:ext cx="7345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能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人只选一项自己喜欢的活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活动计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当老师说开始时才能做，时间到就要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及时记录自己完成任务的数量，填好统计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小组分享并交流结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5" name="图片 1" descr=""/>
          <p:cNvPicPr/>
          <p:nvPr/>
        </p:nvPicPr>
        <p:blipFill>
          <a:blip r:embed="rId1"/>
          <a:stretch/>
        </p:blipFill>
        <p:spPr>
          <a:xfrm>
            <a:off x="1116000" y="3506760"/>
            <a:ext cx="7272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6" name="组合 32769"/>
          <p:cNvGrpSpPr/>
          <p:nvPr/>
        </p:nvGrpSpPr>
        <p:grpSpPr>
          <a:xfrm>
            <a:off x="1763640" y="1050840"/>
            <a:ext cx="5522760" cy="5338800"/>
            <a:chOff x="1763640" y="1050840"/>
            <a:chExt cx="5522760" cy="5338800"/>
          </a:xfrm>
        </p:grpSpPr>
        <p:pic>
          <p:nvPicPr>
            <p:cNvPr id="2397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522760" cy="533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直接连接符 32771"/>
            <p:cNvSpPr/>
            <p:nvPr/>
          </p:nvSpPr>
          <p:spPr>
            <a:xfrm flipH="1">
              <a:off x="4263840" y="5822280"/>
              <a:ext cx="756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直接连接符 32772"/>
            <p:cNvSpPr/>
            <p:nvPr/>
          </p:nvSpPr>
          <p:spPr>
            <a:xfrm flipH="1">
              <a:off x="4057200" y="5795280"/>
              <a:ext cx="129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直接连接符 32773"/>
            <p:cNvSpPr/>
            <p:nvPr/>
          </p:nvSpPr>
          <p:spPr>
            <a:xfrm flipH="1">
              <a:off x="3831840" y="5749200"/>
              <a:ext cx="2808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直接连接符 32774"/>
            <p:cNvSpPr/>
            <p:nvPr/>
          </p:nvSpPr>
          <p:spPr>
            <a:xfrm flipH="1">
              <a:off x="3628800" y="5659920"/>
              <a:ext cx="31320" cy="622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直接连接符 32775"/>
            <p:cNvSpPr/>
            <p:nvPr/>
          </p:nvSpPr>
          <p:spPr>
            <a:xfrm flipH="1">
              <a:off x="3174120" y="543456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直接连接符 32776"/>
            <p:cNvSpPr/>
            <p:nvPr/>
          </p:nvSpPr>
          <p:spPr>
            <a:xfrm flipH="1">
              <a:off x="3009600" y="531252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直接连接符 32777"/>
            <p:cNvSpPr/>
            <p:nvPr/>
          </p:nvSpPr>
          <p:spPr>
            <a:xfrm flipH="1">
              <a:off x="2811240" y="5144760"/>
              <a:ext cx="58320" cy="42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直接连接符 32778"/>
            <p:cNvSpPr/>
            <p:nvPr/>
          </p:nvSpPr>
          <p:spPr>
            <a:xfrm flipH="1">
              <a:off x="2683440" y="4970160"/>
              <a:ext cx="60120" cy="392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直接连接符 32779"/>
            <p:cNvSpPr/>
            <p:nvPr/>
          </p:nvSpPr>
          <p:spPr>
            <a:xfrm flipH="1">
              <a:off x="2404080" y="45378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直接连接符 32780"/>
            <p:cNvSpPr/>
            <p:nvPr/>
          </p:nvSpPr>
          <p:spPr>
            <a:xfrm flipH="1">
              <a:off x="2325960" y="4355640"/>
              <a:ext cx="6768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直接连接符 32781"/>
            <p:cNvSpPr/>
            <p:nvPr/>
          </p:nvSpPr>
          <p:spPr>
            <a:xfrm flipH="1">
              <a:off x="2258640" y="41569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直接连接符 32782"/>
            <p:cNvSpPr/>
            <p:nvPr/>
          </p:nvSpPr>
          <p:spPr>
            <a:xfrm flipH="1">
              <a:off x="2238840" y="39459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直接连接符 32783"/>
            <p:cNvSpPr/>
            <p:nvPr/>
          </p:nvSpPr>
          <p:spPr>
            <a:xfrm flipH="1" flipV="1">
              <a:off x="2229840" y="3440880"/>
              <a:ext cx="7128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直接连接符 32784"/>
            <p:cNvSpPr/>
            <p:nvPr/>
          </p:nvSpPr>
          <p:spPr>
            <a:xfrm flipH="1" flipV="1">
              <a:off x="2259000" y="324072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直接连接符 32785"/>
            <p:cNvSpPr/>
            <p:nvPr/>
          </p:nvSpPr>
          <p:spPr>
            <a:xfrm flipH="1" flipV="1">
              <a:off x="2311200" y="3022560"/>
              <a:ext cx="65520" cy="29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直接连接符 32786"/>
            <p:cNvSpPr/>
            <p:nvPr/>
          </p:nvSpPr>
          <p:spPr>
            <a:xfrm flipH="1" flipV="1">
              <a:off x="2404800" y="2826360"/>
              <a:ext cx="6444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直接连接符 32787"/>
            <p:cNvSpPr/>
            <p:nvPr/>
          </p:nvSpPr>
          <p:spPr>
            <a:xfrm flipH="1" flipV="1">
              <a:off x="2667240" y="236772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直接连接符 32788"/>
            <p:cNvSpPr/>
            <p:nvPr/>
          </p:nvSpPr>
          <p:spPr>
            <a:xfrm flipH="1" flipV="1">
              <a:off x="2797200" y="2208960"/>
              <a:ext cx="5472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直接连接符 32789"/>
            <p:cNvSpPr/>
            <p:nvPr/>
          </p:nvSpPr>
          <p:spPr>
            <a:xfrm flipH="1" flipV="1">
              <a:off x="2984400" y="207144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直接连接符 32790"/>
            <p:cNvSpPr/>
            <p:nvPr/>
          </p:nvSpPr>
          <p:spPr>
            <a:xfrm flipH="1" flipV="1">
              <a:off x="3166200" y="1948320"/>
              <a:ext cx="37440" cy="583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直接连接符 32791"/>
            <p:cNvSpPr/>
            <p:nvPr/>
          </p:nvSpPr>
          <p:spPr>
            <a:xfrm flipH="1" flipV="1">
              <a:off x="3619800" y="169560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直接连接符 32792"/>
            <p:cNvSpPr/>
            <p:nvPr/>
          </p:nvSpPr>
          <p:spPr>
            <a:xfrm flipH="1" flipV="1">
              <a:off x="3815280" y="1620720"/>
              <a:ext cx="23040" cy="662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直接连接符 32793"/>
            <p:cNvSpPr/>
            <p:nvPr/>
          </p:nvSpPr>
          <p:spPr>
            <a:xfrm flipH="1" flipV="1">
              <a:off x="4035960" y="155556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直接连接符 32794"/>
            <p:cNvSpPr/>
            <p:nvPr/>
          </p:nvSpPr>
          <p:spPr>
            <a:xfrm flipH="1" flipV="1">
              <a:off x="4256280" y="1536480"/>
              <a:ext cx="3600" cy="69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直接连接符 32795"/>
            <p:cNvSpPr/>
            <p:nvPr/>
          </p:nvSpPr>
          <p:spPr>
            <a:xfrm flipV="1">
              <a:off x="4776840" y="152604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直接连接符 32796"/>
            <p:cNvSpPr/>
            <p:nvPr/>
          </p:nvSpPr>
          <p:spPr>
            <a:xfrm flipV="1">
              <a:off x="4979520" y="1554480"/>
              <a:ext cx="129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直接连接符 32797"/>
            <p:cNvSpPr/>
            <p:nvPr/>
          </p:nvSpPr>
          <p:spPr>
            <a:xfrm flipV="1">
              <a:off x="5190120" y="1604520"/>
              <a:ext cx="2808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直接连接符 32798"/>
            <p:cNvSpPr/>
            <p:nvPr/>
          </p:nvSpPr>
          <p:spPr>
            <a:xfrm flipV="1">
              <a:off x="5388120" y="1694880"/>
              <a:ext cx="31320" cy="622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直接连接符 32799"/>
            <p:cNvSpPr/>
            <p:nvPr/>
          </p:nvSpPr>
          <p:spPr>
            <a:xfrm flipV="1">
              <a:off x="5845680" y="1941120"/>
              <a:ext cx="4140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直接连接符 32800"/>
            <p:cNvSpPr/>
            <p:nvPr/>
          </p:nvSpPr>
          <p:spPr>
            <a:xfrm flipV="1">
              <a:off x="6008040" y="206712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直接连接符 32801"/>
            <p:cNvSpPr/>
            <p:nvPr/>
          </p:nvSpPr>
          <p:spPr>
            <a:xfrm flipV="1">
              <a:off x="6136920" y="219384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直接连接符 32802"/>
            <p:cNvSpPr/>
            <p:nvPr/>
          </p:nvSpPr>
          <p:spPr>
            <a:xfrm flipV="1">
              <a:off x="6262560" y="2369160"/>
              <a:ext cx="6012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直接连接符 32803"/>
            <p:cNvSpPr/>
            <p:nvPr/>
          </p:nvSpPr>
          <p:spPr>
            <a:xfrm flipV="1">
              <a:off x="6527520" y="28072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直接连接符 32804"/>
            <p:cNvSpPr/>
            <p:nvPr/>
          </p:nvSpPr>
          <p:spPr>
            <a:xfrm flipV="1">
              <a:off x="6602760" y="2997360"/>
              <a:ext cx="6768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直接连接符 32805"/>
            <p:cNvSpPr/>
            <p:nvPr/>
          </p:nvSpPr>
          <p:spPr>
            <a:xfrm flipV="1">
              <a:off x="6666840" y="3211200"/>
              <a:ext cx="7128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直接连接符 32806"/>
            <p:cNvSpPr/>
            <p:nvPr/>
          </p:nvSpPr>
          <p:spPr>
            <a:xfrm flipV="1">
              <a:off x="6685920" y="3423960"/>
              <a:ext cx="7200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直接连接符 32807"/>
            <p:cNvSpPr/>
            <p:nvPr/>
          </p:nvSpPr>
          <p:spPr>
            <a:xfrm>
              <a:off x="6687360" y="3929760"/>
              <a:ext cx="7164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直接连接符 32808"/>
            <p:cNvSpPr/>
            <p:nvPr/>
          </p:nvSpPr>
          <p:spPr>
            <a:xfrm>
              <a:off x="6659280" y="4126680"/>
              <a:ext cx="7056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直接连接符 32809"/>
            <p:cNvSpPr/>
            <p:nvPr/>
          </p:nvSpPr>
          <p:spPr>
            <a:xfrm>
              <a:off x="6612120" y="4329000"/>
              <a:ext cx="65520" cy="29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直接连接符 32810"/>
            <p:cNvSpPr/>
            <p:nvPr/>
          </p:nvSpPr>
          <p:spPr>
            <a:xfrm>
              <a:off x="6519960" y="4520520"/>
              <a:ext cx="6372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直接连接符 32811"/>
            <p:cNvSpPr/>
            <p:nvPr/>
          </p:nvSpPr>
          <p:spPr>
            <a:xfrm>
              <a:off x="6256800" y="494064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直接连接符 32812"/>
            <p:cNvSpPr/>
            <p:nvPr/>
          </p:nvSpPr>
          <p:spPr>
            <a:xfrm>
              <a:off x="6130800" y="50979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直接连接符 32813"/>
            <p:cNvSpPr/>
            <p:nvPr/>
          </p:nvSpPr>
          <p:spPr>
            <a:xfrm>
              <a:off x="6013080" y="527652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直接连接符 32814"/>
            <p:cNvSpPr/>
            <p:nvPr/>
          </p:nvSpPr>
          <p:spPr>
            <a:xfrm>
              <a:off x="5833440" y="5397480"/>
              <a:ext cx="3780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直接连接符 32815"/>
            <p:cNvSpPr/>
            <p:nvPr/>
          </p:nvSpPr>
          <p:spPr>
            <a:xfrm>
              <a:off x="5398920" y="5653440"/>
              <a:ext cx="27720" cy="640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直接连接符 32816"/>
            <p:cNvSpPr/>
            <p:nvPr/>
          </p:nvSpPr>
          <p:spPr>
            <a:xfrm>
              <a:off x="5210280" y="572616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直接连接符 32817"/>
            <p:cNvSpPr/>
            <p:nvPr/>
          </p:nvSpPr>
          <p:spPr>
            <a:xfrm>
              <a:off x="5005080" y="578844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直接连接符 32818"/>
            <p:cNvSpPr/>
            <p:nvPr/>
          </p:nvSpPr>
          <p:spPr>
            <a:xfrm>
              <a:off x="4786920" y="5806440"/>
              <a:ext cx="3600" cy="69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447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8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450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1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2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453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4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5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2456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456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" dur="60000" fill="hold"/>
                                        <p:tgtEl>
                                          <p:spTgt spid="2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36000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43200000" fill="hold"/>
                                        <p:tgtEl>
                                          <p:spTgt spid="2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evt="onClick">
                          <p:tgtEl>
                            <p:spTgt spid="245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矩形 1"/>
          <p:cNvSpPr/>
          <p:nvPr/>
        </p:nvSpPr>
        <p:spPr>
          <a:xfrm>
            <a:off x="971640" y="476280"/>
            <a:ext cx="7345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能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人只选一项自己喜欢的活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活动计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当老师说开始时才能做，时间到就要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及时记录自己完成任务的数量，填好统计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小组分享并交流结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9" name="图片 1" descr=""/>
          <p:cNvPicPr/>
          <p:nvPr/>
        </p:nvPicPr>
        <p:blipFill>
          <a:blip r:embed="rId1"/>
          <a:stretch/>
        </p:blipFill>
        <p:spPr>
          <a:xfrm>
            <a:off x="1116000" y="3506760"/>
            <a:ext cx="7272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5" name="对象 8193" descr=""/>
          <p:cNvPicPr/>
          <p:nvPr/>
        </p:nvPicPr>
        <p:blipFill>
          <a:blip r:embed="rId1"/>
          <a:stretch/>
        </p:blipFill>
        <p:spPr>
          <a:xfrm>
            <a:off x="185760" y="404640"/>
            <a:ext cx="4352760" cy="4283280"/>
          </a:xfrm>
          <a:prstGeom prst="rect">
            <a:avLst/>
          </a:prstGeom>
          <a:ln w="0">
            <a:noFill/>
          </a:ln>
        </p:spPr>
      </p:pic>
      <p:pic>
        <p:nvPicPr>
          <p:cNvPr id="2146" name="Picture 3" descr="CJ3738"/>
          <p:cNvPicPr/>
          <p:nvPr/>
        </p:nvPicPr>
        <p:blipFill>
          <a:blip r:embed="rId2"/>
          <a:stretch/>
        </p:blipFill>
        <p:spPr>
          <a:xfrm>
            <a:off x="7620120" y="5105520"/>
            <a:ext cx="1523880" cy="1752480"/>
          </a:xfrm>
          <a:prstGeom prst="rect">
            <a:avLst/>
          </a:prstGeom>
          <a:ln w="0">
            <a:noFill/>
          </a:ln>
        </p:spPr>
      </p:pic>
      <p:sp>
        <p:nvSpPr>
          <p:cNvPr id="2147" name="Text Box 4"/>
          <p:cNvSpPr/>
          <p:nvPr/>
        </p:nvSpPr>
        <p:spPr>
          <a:xfrm>
            <a:off x="4648320" y="692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钟面上有（    ）个大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（    ）个小格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5"/>
          <p:cNvSpPr/>
          <p:nvPr/>
        </p:nvSpPr>
        <p:spPr>
          <a:xfrm>
            <a:off x="4800600" y="1752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宋体"/>
              </a:rPr>
              <a:t>时针走</a:t>
            </a:r>
            <a:r>
              <a:rPr b="1" lang="en-US" sz="2800" spc="-1" strike="noStrike">
                <a:solidFill>
                  <a:srgbClr val="9966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宋体"/>
              </a:rPr>
              <a:t>大格是（  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6"/>
          <p:cNvSpPr/>
          <p:nvPr/>
        </p:nvSpPr>
        <p:spPr>
          <a:xfrm>
            <a:off x="4800600" y="29718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分针走一小格是（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走一大格是（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7"/>
          <p:cNvSpPr/>
          <p:nvPr/>
        </p:nvSpPr>
        <p:spPr>
          <a:xfrm>
            <a:off x="2057400" y="4876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时针走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大格，分针正好走（   ）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AutoShape 8"/>
          <p:cNvSpPr/>
          <p:nvPr/>
        </p:nvSpPr>
        <p:spPr>
          <a:xfrm rot="5400000">
            <a:off x="3009600" y="4686480"/>
            <a:ext cx="228600" cy="152388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6707"/>
                </a:lnTo>
                <a:cubicBezTo>
                  <a:pt x="10800" y="7606"/>
                  <a:pt x="16200" y="8504"/>
                  <a:pt x="21600" y="8504"/>
                </a:cubicBezTo>
                <a:cubicBezTo>
                  <a:pt x="16200" y="8504"/>
                  <a:pt x="10800" y="9403"/>
                  <a:pt x="10800" y="10301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AutoShape 9"/>
          <p:cNvSpPr/>
          <p:nvPr/>
        </p:nvSpPr>
        <p:spPr>
          <a:xfrm rot="5400000">
            <a:off x="5981400" y="415296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12007"/>
                </a:lnTo>
                <a:cubicBezTo>
                  <a:pt x="10800" y="12906"/>
                  <a:pt x="16200" y="13804"/>
                  <a:pt x="21600" y="13804"/>
                </a:cubicBezTo>
                <a:cubicBezTo>
                  <a:pt x="16200" y="13804"/>
                  <a:pt x="10800" y="14703"/>
                  <a:pt x="10800" y="15601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0"/>
          <p:cNvSpPr/>
          <p:nvPr/>
        </p:nvSpPr>
        <p:spPr>
          <a:xfrm>
            <a:off x="2819520" y="5638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11"/>
          <p:cNvSpPr/>
          <p:nvPr/>
        </p:nvSpPr>
        <p:spPr>
          <a:xfrm>
            <a:off x="5181480" y="5638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5" name="Group 12"/>
          <p:cNvGrpSpPr/>
          <p:nvPr/>
        </p:nvGrpSpPr>
        <p:grpSpPr>
          <a:xfrm>
            <a:off x="4191120" y="5867280"/>
            <a:ext cx="380880" cy="152280"/>
            <a:chOff x="4191120" y="5867280"/>
            <a:chExt cx="380880" cy="152280"/>
          </a:xfrm>
        </p:grpSpPr>
        <p:sp>
          <p:nvSpPr>
            <p:cNvPr id="2156" name="Line 13"/>
            <p:cNvSpPr/>
            <p:nvPr/>
          </p:nvSpPr>
          <p:spPr>
            <a:xfrm>
              <a:off x="4191120" y="586728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4"/>
            <p:cNvSpPr/>
            <p:nvPr/>
          </p:nvSpPr>
          <p:spPr>
            <a:xfrm>
              <a:off x="4191120" y="60195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8" name="Rectangle 15"/>
          <p:cNvSpPr/>
          <p:nvPr/>
        </p:nvSpPr>
        <p:spPr>
          <a:xfrm>
            <a:off x="6478200" y="63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Text Box 16"/>
          <p:cNvSpPr/>
          <p:nvPr/>
        </p:nvSpPr>
        <p:spPr>
          <a:xfrm>
            <a:off x="6477120" y="1109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Text Box 17"/>
          <p:cNvSpPr/>
          <p:nvPr/>
        </p:nvSpPr>
        <p:spPr>
          <a:xfrm>
            <a:off x="7393320" y="1752480"/>
            <a:ext cx="5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 Box 18"/>
          <p:cNvSpPr/>
          <p:nvPr/>
        </p:nvSpPr>
        <p:spPr>
          <a:xfrm>
            <a:off x="7716600" y="29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Text Box 19"/>
          <p:cNvSpPr/>
          <p:nvPr/>
        </p:nvSpPr>
        <p:spPr>
          <a:xfrm>
            <a:off x="7773840" y="344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20"/>
          <p:cNvSpPr/>
          <p:nvPr/>
        </p:nvSpPr>
        <p:spPr>
          <a:xfrm>
            <a:off x="655452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矩形 1"/>
          <p:cNvSpPr/>
          <p:nvPr/>
        </p:nvSpPr>
        <p:spPr>
          <a:xfrm>
            <a:off x="5076720" y="0"/>
            <a:ext cx="4067280" cy="40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矩形 21"/>
          <p:cNvSpPr/>
          <p:nvPr/>
        </p:nvSpPr>
        <p:spPr>
          <a:xfrm>
            <a:off x="-33480" y="6453360"/>
            <a:ext cx="7650360" cy="40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TextBox 19"/>
          <p:cNvSpPr/>
          <p:nvPr/>
        </p:nvSpPr>
        <p:spPr>
          <a:xfrm>
            <a:off x="888840" y="517680"/>
            <a:ext cx="825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看谁用的时间最接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1" name="图片 1" descr=""/>
          <p:cNvPicPr/>
          <p:nvPr/>
        </p:nvPicPr>
        <p:blipFill>
          <a:blip r:embed="rId1"/>
          <a:stretch/>
        </p:blipFill>
        <p:spPr>
          <a:xfrm>
            <a:off x="5775480" y="3452760"/>
            <a:ext cx="2571480" cy="2781360"/>
          </a:xfrm>
          <a:prstGeom prst="rect">
            <a:avLst/>
          </a:prstGeom>
          <a:ln w="0">
            <a:noFill/>
          </a:ln>
        </p:spPr>
      </p:pic>
      <p:pic>
        <p:nvPicPr>
          <p:cNvPr id="2462" name="Picture 9" descr="C:\Users\12556\AppData\Roaming\Seewo\EasiNote5\Temp\6248-24.05.26,20-46-08,7591598\1481aa0e-f793-4ee7-a238-6eef70e85855\Resources\c03dced7724da8b6535aa1e7658817cf.png"/>
          <p:cNvPicPr/>
          <p:nvPr/>
        </p:nvPicPr>
        <p:blipFill>
          <a:blip r:embed="rId2"/>
          <a:stretch/>
        </p:blipFill>
        <p:spPr>
          <a:xfrm>
            <a:off x="339840" y="1359000"/>
            <a:ext cx="3144600" cy="718920"/>
          </a:xfrm>
          <a:prstGeom prst="rect">
            <a:avLst/>
          </a:prstGeom>
          <a:ln w="0">
            <a:noFill/>
          </a:ln>
        </p:spPr>
      </p:pic>
      <p:pic>
        <p:nvPicPr>
          <p:cNvPr id="2463" name="Picture 10" descr="C:\Users\12556\AppData\Roaming\Seewo\EasiNote5\Temp\6248-24.05.26,20-46-08,7591598\1481aa0e-f793-4ee7-a238-6eef70e85855\Resources\f8fbdf9791a0da3945f99438e4a12313.png"/>
          <p:cNvPicPr/>
          <p:nvPr/>
        </p:nvPicPr>
        <p:blipFill>
          <a:blip r:embed="rId3"/>
          <a:stretch/>
        </p:blipFill>
        <p:spPr>
          <a:xfrm>
            <a:off x="339840" y="1994040"/>
            <a:ext cx="845316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4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465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6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4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515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6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7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518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9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0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521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2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3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2524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524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600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3600000" fill="hold"/>
                                        <p:tgtEl>
                                          <p:spTgt spid="2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432000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evt="onClick">
                          <p:tgtEl>
                            <p:spTgt spid="2524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6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2527" name="图片 13" descr="14.png"/>
          <p:cNvPicPr/>
          <p:nvPr/>
        </p:nvPicPr>
        <p:blipFill>
          <a:blip r:embed="rId2"/>
          <a:stretch/>
        </p:blipFill>
        <p:spPr>
          <a:xfrm>
            <a:off x="785880" y="1785960"/>
            <a:ext cx="3541680" cy="395280"/>
          </a:xfrm>
          <a:prstGeom prst="rect">
            <a:avLst/>
          </a:prstGeom>
          <a:ln w="0">
            <a:noFill/>
          </a:ln>
        </p:spPr>
      </p:pic>
      <p:pic>
        <p:nvPicPr>
          <p:cNvPr id="2528" name="图片 4" descr="C:\Users\12556\Documents\WeChat Files\wxid_833aj0flutox22\FileStorage\Temp\abdd0080b59b13622c63249ed1c655c.jpg"/>
          <p:cNvPicPr/>
          <p:nvPr/>
        </p:nvPicPr>
        <p:blipFill>
          <a:blip r:embed="rId3"/>
          <a:stretch/>
        </p:blipFill>
        <p:spPr>
          <a:xfrm>
            <a:off x="684360" y="2535120"/>
            <a:ext cx="777528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123840" y="848880"/>
            <a:ext cx="90201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刘翔在雅典奥运会以</a:t>
            </a:r>
            <a:r>
              <a:rPr b="0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2</a:t>
            </a:r>
            <a:r>
              <a:rPr b="0" lang="zh-CN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秒</a:t>
            </a:r>
            <a:r>
              <a:rPr b="0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91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破当时</a:t>
            </a:r>
            <a:r>
              <a:rPr b="0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10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米栏世界纪录的成绩夺冠。</a:t>
            </a:r>
            <a:br>
              <a:rPr sz="3600"/>
            </a:b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530" name="Picture 4" descr="刘翔"/>
          <p:cNvPicPr/>
          <p:nvPr/>
        </p:nvPicPr>
        <p:blipFill>
          <a:blip r:embed="rId1"/>
          <a:stretch/>
        </p:blipFill>
        <p:spPr>
          <a:xfrm>
            <a:off x="2003400" y="1695600"/>
            <a:ext cx="51847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1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2532" name="图片 4" descr="16.png"/>
          <p:cNvPicPr/>
          <p:nvPr/>
        </p:nvPicPr>
        <p:blipFill>
          <a:blip r:embed="rId2"/>
          <a:stretch/>
        </p:blipFill>
        <p:spPr>
          <a:xfrm>
            <a:off x="857160" y="1890720"/>
            <a:ext cx="3191040" cy="395280"/>
          </a:xfrm>
          <a:prstGeom prst="rect">
            <a:avLst/>
          </a:prstGeom>
          <a:ln w="0">
            <a:noFill/>
          </a:ln>
        </p:spPr>
      </p:pic>
      <p:pic>
        <p:nvPicPr>
          <p:cNvPr id="2533" name="图片 5" descr="17.png"/>
          <p:cNvPicPr/>
          <p:nvPr/>
        </p:nvPicPr>
        <p:blipFill>
          <a:blip r:embed="rId3"/>
          <a:stretch/>
        </p:blipFill>
        <p:spPr>
          <a:xfrm>
            <a:off x="642960" y="2730600"/>
            <a:ext cx="2406600" cy="1668240"/>
          </a:xfrm>
          <a:prstGeom prst="rect">
            <a:avLst/>
          </a:prstGeom>
          <a:ln w="0">
            <a:noFill/>
          </a:ln>
        </p:spPr>
      </p:pic>
      <p:pic>
        <p:nvPicPr>
          <p:cNvPr id="2534" name="图片 6" descr="18.png"/>
          <p:cNvPicPr/>
          <p:nvPr/>
        </p:nvPicPr>
        <p:blipFill>
          <a:blip r:embed="rId4"/>
          <a:stretch/>
        </p:blipFill>
        <p:spPr>
          <a:xfrm>
            <a:off x="3378240" y="2857680"/>
            <a:ext cx="2336760" cy="1511280"/>
          </a:xfrm>
          <a:prstGeom prst="rect">
            <a:avLst/>
          </a:prstGeom>
          <a:ln w="0">
            <a:noFill/>
          </a:ln>
        </p:spPr>
      </p:pic>
      <p:pic>
        <p:nvPicPr>
          <p:cNvPr id="2535" name="图片 7" descr="19.png"/>
          <p:cNvPicPr/>
          <p:nvPr/>
        </p:nvPicPr>
        <p:blipFill>
          <a:blip r:embed="rId5"/>
          <a:stretch/>
        </p:blipFill>
        <p:spPr>
          <a:xfrm>
            <a:off x="5959440" y="2736720"/>
            <a:ext cx="27558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6" name="图片 1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537" name="矩形 1"/>
          <p:cNvSpPr/>
          <p:nvPr/>
        </p:nvSpPr>
        <p:spPr>
          <a:xfrm>
            <a:off x="1692360" y="2324160"/>
            <a:ext cx="71892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a9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文本框 2"/>
          <p:cNvSpPr/>
          <p:nvPr/>
        </p:nvSpPr>
        <p:spPr>
          <a:xfrm>
            <a:off x="1763640" y="2268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9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540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1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9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590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1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2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593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4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5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596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7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59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59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60000" fill="hold"/>
                                        <p:tgtEl>
                                          <p:spTgt spid="2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3600000" fill="hold"/>
                                        <p:tgtEl>
                                          <p:spTgt spid="2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43200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evt="onClick">
                          <p:tgtEl>
                            <p:spTgt spid="2599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1" name="图片 1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602" name="矩形 1"/>
          <p:cNvSpPr/>
          <p:nvPr/>
        </p:nvSpPr>
        <p:spPr>
          <a:xfrm>
            <a:off x="1692360" y="2324160"/>
            <a:ext cx="71892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a9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文本框 2"/>
          <p:cNvSpPr/>
          <p:nvPr/>
        </p:nvSpPr>
        <p:spPr>
          <a:xfrm>
            <a:off x="1763640" y="2268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4" name="组合 4"/>
          <p:cNvGrpSpPr/>
          <p:nvPr/>
        </p:nvGrpSpPr>
        <p:grpSpPr>
          <a:xfrm>
            <a:off x="4616280" y="2155680"/>
            <a:ext cx="812880" cy="696600"/>
            <a:chOff x="4616280" y="2155680"/>
            <a:chExt cx="812880" cy="696600"/>
          </a:xfrm>
        </p:grpSpPr>
        <p:sp>
          <p:nvSpPr>
            <p:cNvPr id="2605" name="矩形 2"/>
            <p:cNvSpPr/>
            <p:nvPr/>
          </p:nvSpPr>
          <p:spPr>
            <a:xfrm>
              <a:off x="4616280" y="2155680"/>
              <a:ext cx="72252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文本框 3"/>
            <p:cNvSpPr/>
            <p:nvPr/>
          </p:nvSpPr>
          <p:spPr>
            <a:xfrm>
              <a:off x="4616280" y="2268000"/>
              <a:ext cx="81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7" name="组合 7"/>
          <p:cNvGrpSpPr/>
          <p:nvPr/>
        </p:nvGrpSpPr>
        <p:grpSpPr>
          <a:xfrm>
            <a:off x="627120" y="3076560"/>
            <a:ext cx="958680" cy="696600"/>
            <a:chOff x="627120" y="3076560"/>
            <a:chExt cx="958680" cy="696600"/>
          </a:xfrm>
        </p:grpSpPr>
        <p:sp>
          <p:nvSpPr>
            <p:cNvPr id="2608" name="矩形 8"/>
            <p:cNvSpPr/>
            <p:nvPr/>
          </p:nvSpPr>
          <p:spPr>
            <a:xfrm>
              <a:off x="627120" y="3076560"/>
              <a:ext cx="72180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文本框 9"/>
            <p:cNvSpPr/>
            <p:nvPr/>
          </p:nvSpPr>
          <p:spPr>
            <a:xfrm>
              <a:off x="773640" y="3188880"/>
              <a:ext cx="81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0" name="组合 10"/>
          <p:cNvGrpSpPr/>
          <p:nvPr/>
        </p:nvGrpSpPr>
        <p:grpSpPr>
          <a:xfrm>
            <a:off x="4249800" y="3132000"/>
            <a:ext cx="852480" cy="581400"/>
            <a:chOff x="4249800" y="3132000"/>
            <a:chExt cx="852480" cy="581400"/>
          </a:xfrm>
        </p:grpSpPr>
        <p:sp>
          <p:nvSpPr>
            <p:cNvPr id="2611" name="矩形 11"/>
            <p:cNvSpPr/>
            <p:nvPr/>
          </p:nvSpPr>
          <p:spPr>
            <a:xfrm>
              <a:off x="4249800" y="3208680"/>
              <a:ext cx="722880" cy="43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文本框 12"/>
            <p:cNvSpPr/>
            <p:nvPr/>
          </p:nvSpPr>
          <p:spPr>
            <a:xfrm>
              <a:off x="4320360" y="3132000"/>
              <a:ext cx="78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3" name="组合 16"/>
          <p:cNvGrpSpPr/>
          <p:nvPr/>
        </p:nvGrpSpPr>
        <p:grpSpPr>
          <a:xfrm>
            <a:off x="4249800" y="3681360"/>
            <a:ext cx="722160" cy="520560"/>
            <a:chOff x="4249800" y="3681360"/>
            <a:chExt cx="722160" cy="520560"/>
          </a:xfrm>
        </p:grpSpPr>
        <p:sp>
          <p:nvSpPr>
            <p:cNvPr id="2614" name="矩形 5"/>
            <p:cNvSpPr/>
            <p:nvPr/>
          </p:nvSpPr>
          <p:spPr>
            <a:xfrm>
              <a:off x="4249800" y="3773520"/>
              <a:ext cx="722160" cy="33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文本框 6"/>
            <p:cNvSpPr/>
            <p:nvPr/>
          </p:nvSpPr>
          <p:spPr>
            <a:xfrm>
              <a:off x="4320000" y="3681360"/>
              <a:ext cx="65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6" name="组合 18"/>
          <p:cNvGrpSpPr/>
          <p:nvPr/>
        </p:nvGrpSpPr>
        <p:grpSpPr>
          <a:xfrm>
            <a:off x="7089840" y="3635280"/>
            <a:ext cx="722160" cy="696960"/>
            <a:chOff x="7089840" y="3635280"/>
            <a:chExt cx="722160" cy="696960"/>
          </a:xfrm>
        </p:grpSpPr>
        <p:sp>
          <p:nvSpPr>
            <p:cNvPr id="2617" name="矩形 19"/>
            <p:cNvSpPr/>
            <p:nvPr/>
          </p:nvSpPr>
          <p:spPr>
            <a:xfrm>
              <a:off x="7089840" y="3635280"/>
              <a:ext cx="72216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文本框 20"/>
            <p:cNvSpPr/>
            <p:nvPr/>
          </p:nvSpPr>
          <p:spPr>
            <a:xfrm>
              <a:off x="7089840" y="374760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9" name="组合 17"/>
          <p:cNvGrpSpPr/>
          <p:nvPr/>
        </p:nvGrpSpPr>
        <p:grpSpPr>
          <a:xfrm>
            <a:off x="3290760" y="3990960"/>
            <a:ext cx="722520" cy="696960"/>
            <a:chOff x="3290760" y="3990960"/>
            <a:chExt cx="722520" cy="696960"/>
          </a:xfrm>
        </p:grpSpPr>
        <p:sp>
          <p:nvSpPr>
            <p:cNvPr id="2620" name="矩形 21"/>
            <p:cNvSpPr/>
            <p:nvPr/>
          </p:nvSpPr>
          <p:spPr>
            <a:xfrm>
              <a:off x="3290760" y="3990960"/>
              <a:ext cx="72252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文本框 22"/>
            <p:cNvSpPr/>
            <p:nvPr/>
          </p:nvSpPr>
          <p:spPr>
            <a:xfrm>
              <a:off x="3290760" y="4103280"/>
              <a:ext cx="7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262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63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264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9" name="Text Box 29" descr=""/>
          <p:cNvPicPr/>
          <p:nvPr/>
        </p:nvPicPr>
        <p:blipFill>
          <a:blip r:embed="rId3"/>
          <a:stretch/>
        </p:blipFill>
        <p:spPr>
          <a:xfrm rot="206400">
            <a:off x="87480" y="1362240"/>
            <a:ext cx="7778520" cy="3171600"/>
          </a:xfrm>
          <a:prstGeom prst="rect">
            <a:avLst/>
          </a:prstGeom>
          <a:ln w="0">
            <a:noFill/>
          </a:ln>
        </p:spPr>
      </p:pic>
      <p:pic>
        <p:nvPicPr>
          <p:cNvPr id="2650" name="图片 1" descr=""/>
          <p:cNvPicPr/>
          <p:nvPr/>
        </p:nvPicPr>
        <p:blipFill>
          <a:blip r:embed="rId4"/>
          <a:stretch/>
        </p:blipFill>
        <p:spPr>
          <a:xfrm>
            <a:off x="2340000" y="3986280"/>
            <a:ext cx="457992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6" name="Picture 4" descr=""/>
          <p:cNvPicPr/>
          <p:nvPr/>
        </p:nvPicPr>
        <p:blipFill>
          <a:blip r:embed="rId1"/>
          <a:stretch/>
        </p:blipFill>
        <p:spPr>
          <a:xfrm>
            <a:off x="701640" y="746280"/>
            <a:ext cx="3981600" cy="4047840"/>
          </a:xfrm>
          <a:prstGeom prst="rect">
            <a:avLst/>
          </a:prstGeom>
          <a:ln w="0">
            <a:noFill/>
          </a:ln>
        </p:spPr>
      </p:pic>
      <p:grpSp>
        <p:nvGrpSpPr>
          <p:cNvPr id="2167" name="Group 5"/>
          <p:cNvGrpSpPr/>
          <p:nvPr/>
        </p:nvGrpSpPr>
        <p:grpSpPr>
          <a:xfrm>
            <a:off x="2413800" y="2562120"/>
            <a:ext cx="1163520" cy="994320"/>
            <a:chOff x="2413800" y="2562120"/>
            <a:chExt cx="1163520" cy="994320"/>
          </a:xfrm>
        </p:grpSpPr>
        <p:sp>
          <p:nvSpPr>
            <p:cNvPr id="2168" name="Oval 6"/>
            <p:cNvSpPr/>
            <p:nvPr/>
          </p:nvSpPr>
          <p:spPr>
            <a:xfrm rot="13179000">
              <a:off x="2413080" y="2645640"/>
              <a:ext cx="301680" cy="10728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9" name="Group 7"/>
            <p:cNvGrpSpPr/>
            <p:nvPr/>
          </p:nvGrpSpPr>
          <p:grpSpPr>
            <a:xfrm>
              <a:off x="2556000" y="2675520"/>
              <a:ext cx="1021320" cy="880920"/>
              <a:chOff x="2556000" y="2675520"/>
              <a:chExt cx="1021320" cy="880920"/>
            </a:xfrm>
          </p:grpSpPr>
          <p:sp>
            <p:nvSpPr>
              <p:cNvPr id="2170" name="AutoShape 8"/>
              <p:cNvSpPr/>
              <p:nvPr/>
            </p:nvSpPr>
            <p:spPr>
              <a:xfrm rot="13179000">
                <a:off x="2462400" y="3044160"/>
                <a:ext cx="1208160" cy="142920"/>
              </a:xfrm>
              <a:prstGeom prst="leftArrow">
                <a:avLst>
                  <a:gd name="adj1" fmla="val 50000"/>
                  <a:gd name="adj2" fmla="val 211335"/>
                </a:avLst>
              </a:prstGeom>
              <a:solidFill>
                <a:srgbClr val="66ffcc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Rectangle 9"/>
              <p:cNvSpPr/>
              <p:nvPr/>
            </p:nvSpPr>
            <p:spPr>
              <a:xfrm rot="13179000">
                <a:off x="2543400" y="2855520"/>
                <a:ext cx="503640" cy="71280"/>
              </a:xfrm>
              <a:prstGeom prst="rect">
                <a:avLst/>
              </a:prstGeom>
              <a:solidFill>
                <a:srgbClr val="4b4b4b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2" name="Group 10"/>
          <p:cNvGrpSpPr/>
          <p:nvPr/>
        </p:nvGrpSpPr>
        <p:grpSpPr>
          <a:xfrm>
            <a:off x="1472760" y="2514240"/>
            <a:ext cx="1168200" cy="608760"/>
            <a:chOff x="1472760" y="2514240"/>
            <a:chExt cx="1168200" cy="608760"/>
          </a:xfrm>
        </p:grpSpPr>
        <p:sp>
          <p:nvSpPr>
            <p:cNvPr id="2173" name="Oval 11"/>
            <p:cNvSpPr/>
            <p:nvPr/>
          </p:nvSpPr>
          <p:spPr>
            <a:xfrm rot="20458800">
              <a:off x="2366640" y="2548440"/>
              <a:ext cx="246600" cy="21168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4" name="Group 12"/>
            <p:cNvGrpSpPr/>
            <p:nvPr/>
          </p:nvGrpSpPr>
          <p:grpSpPr>
            <a:xfrm>
              <a:off x="1472760" y="2534040"/>
              <a:ext cx="1025640" cy="588960"/>
              <a:chOff x="1472760" y="2534040"/>
              <a:chExt cx="1025640" cy="588960"/>
            </a:xfrm>
          </p:grpSpPr>
          <p:sp>
            <p:nvSpPr>
              <p:cNvPr id="2175" name="AutoShape 13"/>
              <p:cNvSpPr/>
              <p:nvPr/>
            </p:nvSpPr>
            <p:spPr>
              <a:xfrm rot="20458800">
                <a:off x="1491840" y="2687040"/>
                <a:ext cx="987480" cy="282600"/>
              </a:xfrm>
              <a:prstGeom prst="leftArrow">
                <a:avLst>
                  <a:gd name="adj1" fmla="val 50000"/>
                  <a:gd name="adj2" fmla="val 87357"/>
                </a:avLst>
              </a:prstGeom>
              <a:solidFill>
                <a:srgbClr val="66ffcc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Rectangle 14"/>
              <p:cNvSpPr/>
              <p:nvPr/>
            </p:nvSpPr>
            <p:spPr>
              <a:xfrm rot="20458800">
                <a:off x="2051640" y="2664000"/>
                <a:ext cx="411480" cy="140760"/>
              </a:xfrm>
              <a:prstGeom prst="rect">
                <a:avLst/>
              </a:prstGeom>
              <a:solidFill>
                <a:srgbClr val="4b4b4b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7" name="Group 18"/>
          <p:cNvGrpSpPr/>
          <p:nvPr/>
        </p:nvGrpSpPr>
        <p:grpSpPr>
          <a:xfrm>
            <a:off x="2503440" y="1035000"/>
            <a:ext cx="69840" cy="1657080"/>
            <a:chOff x="2503440" y="1035000"/>
            <a:chExt cx="69840" cy="1657080"/>
          </a:xfrm>
        </p:grpSpPr>
        <p:sp>
          <p:nvSpPr>
            <p:cNvPr id="2178" name="AutoShape 15"/>
            <p:cNvSpPr/>
            <p:nvPr/>
          </p:nvSpPr>
          <p:spPr>
            <a:xfrm>
              <a:off x="2503440" y="1035000"/>
              <a:ext cx="69840" cy="1441440"/>
            </a:xfrm>
            <a:prstGeom prst="upArrow">
              <a:avLst>
                <a:gd name="adj1" fmla="val 50000"/>
                <a:gd name="adj2" fmla="val 515693"/>
              </a:avLst>
            </a:prstGeom>
            <a:solidFill>
              <a:srgbClr val="ff00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Oval 17"/>
            <p:cNvSpPr/>
            <p:nvPr/>
          </p:nvSpPr>
          <p:spPr>
            <a:xfrm>
              <a:off x="2513160" y="2331360"/>
              <a:ext cx="49680" cy="36072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0" name="Group 21"/>
          <p:cNvGrpSpPr/>
          <p:nvPr/>
        </p:nvGrpSpPr>
        <p:grpSpPr>
          <a:xfrm>
            <a:off x="2644920" y="1467000"/>
            <a:ext cx="2827080" cy="459720"/>
            <a:chOff x="2644920" y="1467000"/>
            <a:chExt cx="2827080" cy="459720"/>
          </a:xfrm>
        </p:grpSpPr>
        <p:sp>
          <p:nvSpPr>
            <p:cNvPr id="2181" name="Line 22"/>
            <p:cNvSpPr/>
            <p:nvPr/>
          </p:nvSpPr>
          <p:spPr>
            <a:xfrm>
              <a:off x="2644920" y="1830600"/>
              <a:ext cx="16394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Text Box 23"/>
            <p:cNvSpPr/>
            <p:nvPr/>
          </p:nvSpPr>
          <p:spPr>
            <a:xfrm>
              <a:off x="4361400" y="1467000"/>
              <a:ext cx="111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秒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Group 24"/>
          <p:cNvGrpSpPr/>
          <p:nvPr/>
        </p:nvGrpSpPr>
        <p:grpSpPr>
          <a:xfrm>
            <a:off x="2502000" y="1108080"/>
            <a:ext cx="69840" cy="1653840"/>
            <a:chOff x="2502000" y="1108080"/>
            <a:chExt cx="69840" cy="1653840"/>
          </a:xfrm>
        </p:grpSpPr>
        <p:sp>
          <p:nvSpPr>
            <p:cNvPr id="2184" name="AutoShape 25"/>
            <p:cNvSpPr/>
            <p:nvPr/>
          </p:nvSpPr>
          <p:spPr>
            <a:xfrm>
              <a:off x="2502000" y="1108080"/>
              <a:ext cx="69840" cy="1438560"/>
            </a:xfrm>
            <a:prstGeom prst="upArrow">
              <a:avLst>
                <a:gd name="adj1" fmla="val 50000"/>
                <a:gd name="adj2" fmla="val 514662"/>
              </a:avLst>
            </a:prstGeom>
            <a:solidFill>
              <a:srgbClr val="ffff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Oval 26"/>
            <p:cNvSpPr/>
            <p:nvPr/>
          </p:nvSpPr>
          <p:spPr>
            <a:xfrm>
              <a:off x="2511720" y="2401920"/>
              <a:ext cx="49680" cy="360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6" name="Group 27"/>
          <p:cNvGrpSpPr/>
          <p:nvPr/>
        </p:nvGrpSpPr>
        <p:grpSpPr>
          <a:xfrm>
            <a:off x="2502000" y="1108080"/>
            <a:ext cx="71280" cy="1653840"/>
            <a:chOff x="2502000" y="1108080"/>
            <a:chExt cx="71280" cy="1653840"/>
          </a:xfrm>
        </p:grpSpPr>
        <p:sp>
          <p:nvSpPr>
            <p:cNvPr id="2187" name="AutoShape 28"/>
            <p:cNvSpPr/>
            <p:nvPr/>
          </p:nvSpPr>
          <p:spPr>
            <a:xfrm>
              <a:off x="2502000" y="1108080"/>
              <a:ext cx="71280" cy="1438560"/>
            </a:xfrm>
            <a:prstGeom prst="upArrow">
              <a:avLst>
                <a:gd name="adj1" fmla="val 50000"/>
                <a:gd name="adj2" fmla="val 504265"/>
              </a:avLst>
            </a:prstGeom>
            <a:solidFill>
              <a:srgbClr val="ff00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Oval 29"/>
            <p:cNvSpPr/>
            <p:nvPr/>
          </p:nvSpPr>
          <p:spPr>
            <a:xfrm>
              <a:off x="2512080" y="2401920"/>
              <a:ext cx="50760" cy="36000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Group 55"/>
          <p:cNvGrpSpPr/>
          <p:nvPr/>
        </p:nvGrpSpPr>
        <p:grpSpPr>
          <a:xfrm>
            <a:off x="4683240" y="1581120"/>
            <a:ext cx="4890600" cy="3212640"/>
            <a:chOff x="4683240" y="1581120"/>
            <a:chExt cx="4890600" cy="3212640"/>
          </a:xfrm>
        </p:grpSpPr>
        <p:pic>
          <p:nvPicPr>
            <p:cNvPr id="2190" name="Picture 67" descr="002"/>
            <p:cNvPicPr/>
            <p:nvPr/>
          </p:nvPicPr>
          <p:blipFill>
            <a:blip r:embed="rId2"/>
            <a:stretch/>
          </p:blipFill>
          <p:spPr>
            <a:xfrm flipH="1">
              <a:off x="4683240" y="1581120"/>
              <a:ext cx="44611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1" name="Rectangle 65"/>
            <p:cNvSpPr/>
            <p:nvPr/>
          </p:nvSpPr>
          <p:spPr>
            <a:xfrm>
              <a:off x="4683240" y="1909800"/>
              <a:ext cx="489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钟表上除了有时针，分针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还有秒针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2" name="Picture 66" descr="小精灵-04"/>
            <p:cNvPicPr/>
            <p:nvPr/>
          </p:nvPicPr>
          <p:blipFill>
            <a:blip r:embed="rId3"/>
            <a:stretch/>
          </p:blipFill>
          <p:spPr>
            <a:xfrm>
              <a:off x="7298640" y="2881800"/>
              <a:ext cx="1331640" cy="191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3" name="Picture 53" descr="u=1269048324,2278151910&amp;fm=23&amp;gp=0"/>
          <p:cNvPicPr/>
          <p:nvPr/>
        </p:nvPicPr>
        <p:blipFill>
          <a:blip r:embed="rId4"/>
          <a:stretch/>
        </p:blipFill>
        <p:spPr>
          <a:xfrm>
            <a:off x="449280" y="127080"/>
            <a:ext cx="817560" cy="1050840"/>
          </a:xfrm>
          <a:prstGeom prst="rect">
            <a:avLst/>
          </a:prstGeom>
          <a:ln w="0">
            <a:noFill/>
          </a:ln>
        </p:spPr>
      </p:pic>
      <p:sp>
        <p:nvSpPr>
          <p:cNvPr id="2194" name="WordArt 54"/>
          <p:cNvSpPr txBox="1"/>
          <p:nvPr/>
        </p:nvSpPr>
        <p:spPr>
          <a:xfrm>
            <a:off x="1278000" y="314280"/>
            <a:ext cx="136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认识秒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5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196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7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246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7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249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1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252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3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4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WordArt 54"/>
          <p:cNvSpPr txBox="1"/>
          <p:nvPr/>
        </p:nvSpPr>
        <p:spPr>
          <a:xfrm>
            <a:off x="204840" y="385920"/>
            <a:ext cx="191772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认识秒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2257" name="Group 45"/>
          <p:cNvGrpSpPr/>
          <p:nvPr/>
        </p:nvGrpSpPr>
        <p:grpSpPr>
          <a:xfrm>
            <a:off x="-198360" y="4368960"/>
            <a:ext cx="8057160" cy="1694880"/>
            <a:chOff x="-198360" y="4368960"/>
            <a:chExt cx="8057160" cy="1694880"/>
          </a:xfrm>
        </p:grpSpPr>
        <p:pic>
          <p:nvPicPr>
            <p:cNvPr id="2258" name="Picture 55" descr="小精灵-013"/>
            <p:cNvPicPr/>
            <p:nvPr/>
          </p:nvPicPr>
          <p:blipFill>
            <a:blip r:embed="rId5"/>
            <a:stretch/>
          </p:blipFill>
          <p:spPr>
            <a:xfrm>
              <a:off x="-198360" y="4368960"/>
              <a:ext cx="2763720" cy="16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9" name="Group 44"/>
            <p:cNvGrpSpPr/>
            <p:nvPr/>
          </p:nvGrpSpPr>
          <p:grpSpPr>
            <a:xfrm>
              <a:off x="2373120" y="4422960"/>
              <a:ext cx="5485680" cy="1097280"/>
              <a:chOff x="2373120" y="4422960"/>
              <a:chExt cx="5485680" cy="1097280"/>
            </a:xfrm>
          </p:grpSpPr>
          <p:pic>
            <p:nvPicPr>
              <p:cNvPr id="2260" name="Picture 56" descr="015"/>
              <p:cNvPicPr/>
              <p:nvPr/>
            </p:nvPicPr>
            <p:blipFill>
              <a:blip r:embed="rId6"/>
              <a:stretch/>
            </p:blipFill>
            <p:spPr>
              <a:xfrm>
                <a:off x="2373120" y="4422960"/>
                <a:ext cx="548568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1" name="Rectangle 65"/>
              <p:cNvSpPr/>
              <p:nvPr/>
            </p:nvSpPr>
            <p:spPr>
              <a:xfrm>
                <a:off x="3065400" y="4573080"/>
                <a:ext cx="4198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秒针最细最长，走得最快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strips dir="l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5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25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600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36000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432000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圆角矩形标注 62"/>
          <p:cNvSpPr/>
          <p:nvPr/>
        </p:nvSpPr>
        <p:spPr>
          <a:xfrm>
            <a:off x="5276880" y="3222720"/>
            <a:ext cx="3254400" cy="49032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小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3" name="图片 11" descr=""/>
          <p:cNvPicPr/>
          <p:nvPr/>
        </p:nvPicPr>
        <p:blipFill>
          <a:blip r:embed="rId1"/>
          <a:stretch/>
        </p:blipFill>
        <p:spPr>
          <a:xfrm>
            <a:off x="2411280" y="2422440"/>
            <a:ext cx="2521080" cy="2519280"/>
          </a:xfrm>
          <a:prstGeom prst="rect">
            <a:avLst/>
          </a:prstGeom>
          <a:ln w="0">
            <a:noFill/>
          </a:ln>
        </p:spPr>
      </p:pic>
      <p:sp>
        <p:nvSpPr>
          <p:cNvPr id="2264" name="菱形 24"/>
          <p:cNvSpPr/>
          <p:nvPr/>
        </p:nvSpPr>
        <p:spPr>
          <a:xfrm rot="5400000">
            <a:off x="3343320" y="3463920"/>
            <a:ext cx="98640" cy="511200"/>
          </a:xfrm>
          <a:prstGeom prst="diamond">
            <a:avLst/>
          </a:prstGeom>
          <a:solidFill>
            <a:srgbClr val="545454"/>
          </a:solidFill>
          <a:ln w="12600">
            <a:solidFill>
              <a:srgbClr val="545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饼形 25"/>
          <p:cNvSpPr/>
          <p:nvPr/>
        </p:nvSpPr>
        <p:spPr>
          <a:xfrm rot="16200000">
            <a:off x="2504160" y="2527920"/>
            <a:ext cx="2287440" cy="2282760"/>
          </a:xfrm>
          <a:custGeom>
            <a:avLst/>
            <a:gdLst/>
            <a:ahLst/>
            <a:rect l="l" t="t" r="r" b="b"/>
            <a:pathLst>
              <a:path w="2287587" h="2282825">
                <a:moveTo>
                  <a:pt x="2287493" y="1126805"/>
                </a:moveTo>
                <a:cubicBezTo>
                  <a:pt x="2287462" y="1117058"/>
                  <a:pt x="2287493" y="1121928"/>
                  <a:pt x="2287493" y="1126805"/>
                </a:cubicBezTo>
                <a:cubicBezTo>
                  <a:pt x="2287493" y="1174488"/>
                  <a:pt x="2284563" y="1221487"/>
                  <a:pt x="2278917" y="1267281"/>
                </a:cubicBezTo>
                <a:lnTo>
                  <a:pt x="1143793" y="1141412"/>
                </a:lnTo>
                <a:close/>
              </a:path>
            </a:pathLst>
          </a:custGeom>
          <a:solidFill>
            <a:srgbClr val="00b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6" name="组合 29"/>
          <p:cNvGrpSpPr/>
          <p:nvPr/>
        </p:nvGrpSpPr>
        <p:grpSpPr>
          <a:xfrm>
            <a:off x="3649680" y="2779560"/>
            <a:ext cx="11160" cy="1884600"/>
            <a:chOff x="3649680" y="2779560"/>
            <a:chExt cx="11160" cy="1884600"/>
          </a:xfrm>
        </p:grpSpPr>
        <p:sp>
          <p:nvSpPr>
            <p:cNvPr id="2267" name="矩形 30"/>
            <p:cNvSpPr/>
            <p:nvPr/>
          </p:nvSpPr>
          <p:spPr>
            <a:xfrm>
              <a:off x="3649680" y="2779560"/>
              <a:ext cx="1116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矩形 31"/>
            <p:cNvSpPr/>
            <p:nvPr/>
          </p:nvSpPr>
          <p:spPr>
            <a:xfrm>
              <a:off x="3649680" y="3728880"/>
              <a:ext cx="11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9" name="圆角矩形标注 33"/>
          <p:cNvSpPr/>
          <p:nvPr/>
        </p:nvSpPr>
        <p:spPr>
          <a:xfrm>
            <a:off x="4572000" y="2182680"/>
            <a:ext cx="1008000" cy="358920"/>
          </a:xfrm>
          <a:prstGeom prst="wedgeRoundRectCallout">
            <a:avLst>
              <a:gd name="adj1" fmla="val -130435"/>
              <a:gd name="adj2" fmla="val 139222"/>
              <a:gd name="adj3" fmla="val 16667"/>
            </a:avLst>
          </a:prstGeom>
          <a:noFill/>
          <a:ln w="12600">
            <a:solidFill>
              <a:srgbClr val="8a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Box 19"/>
          <p:cNvSpPr/>
          <p:nvPr/>
        </p:nvSpPr>
        <p:spPr>
          <a:xfrm>
            <a:off x="824040" y="1409760"/>
            <a:ext cx="18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圆角矩形标注 39"/>
          <p:cNvSpPr/>
          <p:nvPr/>
        </p:nvSpPr>
        <p:spPr>
          <a:xfrm>
            <a:off x="5262480" y="4073400"/>
            <a:ext cx="3440160" cy="49212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2" name="组合 11"/>
          <p:cNvGrpSpPr/>
          <p:nvPr/>
        </p:nvGrpSpPr>
        <p:grpSpPr>
          <a:xfrm>
            <a:off x="3648240" y="2774880"/>
            <a:ext cx="10800" cy="1884600"/>
            <a:chOff x="3648240" y="2774880"/>
            <a:chExt cx="10800" cy="1884600"/>
          </a:xfrm>
        </p:grpSpPr>
        <p:sp>
          <p:nvSpPr>
            <p:cNvPr id="2273" name="矩形 12"/>
            <p:cNvSpPr/>
            <p:nvPr/>
          </p:nvSpPr>
          <p:spPr>
            <a:xfrm>
              <a:off x="3648240" y="2774880"/>
              <a:ext cx="1080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矩形 13"/>
            <p:cNvSpPr/>
            <p:nvPr/>
          </p:nvSpPr>
          <p:spPr>
            <a:xfrm>
              <a:off x="3648240" y="3724200"/>
              <a:ext cx="1080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5" name="圆角矩形标注 1"/>
          <p:cNvSpPr/>
          <p:nvPr/>
        </p:nvSpPr>
        <p:spPr>
          <a:xfrm>
            <a:off x="5327640" y="4751280"/>
            <a:ext cx="3254400" cy="49068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圈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129" dur="1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">
                                      <p:cBhvr>
                                        <p:cTn id="148" dur="2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圆角矩形标注 64"/>
          <p:cNvSpPr/>
          <p:nvPr/>
        </p:nvSpPr>
        <p:spPr>
          <a:xfrm>
            <a:off x="5389560" y="4156200"/>
            <a:ext cx="2825640" cy="492120"/>
          </a:xfrm>
          <a:prstGeom prst="wedgeRoundRectCallout">
            <a:avLst>
              <a:gd name="adj1" fmla="val -58162"/>
              <a:gd name="adj2" fmla="val 3796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7" name="图片 11" descr=""/>
          <p:cNvPicPr/>
          <p:nvPr/>
        </p:nvPicPr>
        <p:blipFill>
          <a:blip r:embed="rId1"/>
          <a:stretch/>
        </p:blipFill>
        <p:spPr>
          <a:xfrm>
            <a:off x="1859040" y="2425680"/>
            <a:ext cx="2520720" cy="2519280"/>
          </a:xfrm>
          <a:prstGeom prst="rect">
            <a:avLst/>
          </a:prstGeom>
          <a:ln w="0">
            <a:noFill/>
          </a:ln>
        </p:spPr>
      </p:pic>
      <p:sp>
        <p:nvSpPr>
          <p:cNvPr id="2278" name="菱形 24"/>
          <p:cNvSpPr/>
          <p:nvPr/>
        </p:nvSpPr>
        <p:spPr>
          <a:xfrm rot="5400000">
            <a:off x="2813040" y="3467160"/>
            <a:ext cx="98640" cy="511200"/>
          </a:xfrm>
          <a:prstGeom prst="diamond">
            <a:avLst/>
          </a:prstGeom>
          <a:solidFill>
            <a:srgbClr val="545454"/>
          </a:solidFill>
          <a:ln w="12600">
            <a:solidFill>
              <a:srgbClr val="545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9" name="组合 26"/>
          <p:cNvGrpSpPr/>
          <p:nvPr/>
        </p:nvGrpSpPr>
        <p:grpSpPr>
          <a:xfrm>
            <a:off x="3094200" y="2954160"/>
            <a:ext cx="55440" cy="1687680"/>
            <a:chOff x="3094200" y="2954160"/>
            <a:chExt cx="55440" cy="1687680"/>
          </a:xfrm>
        </p:grpSpPr>
        <p:sp>
          <p:nvSpPr>
            <p:cNvPr id="2280" name="菱形 27"/>
            <p:cNvSpPr/>
            <p:nvPr/>
          </p:nvSpPr>
          <p:spPr>
            <a:xfrm flipH="1">
              <a:off x="3094200" y="2954160"/>
              <a:ext cx="55440" cy="766800"/>
            </a:xfrm>
            <a:prstGeom prst="diamond">
              <a:avLst/>
            </a:prstGeom>
            <a:solidFill>
              <a:srgbClr val="7f7f7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菱形 28"/>
            <p:cNvSpPr/>
            <p:nvPr/>
          </p:nvSpPr>
          <p:spPr>
            <a:xfrm flipH="1">
              <a:off x="3094200" y="3738600"/>
              <a:ext cx="55440" cy="903240"/>
            </a:xfrm>
            <a:prstGeom prst="diamond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组合 34"/>
          <p:cNvGrpSpPr/>
          <p:nvPr/>
        </p:nvGrpSpPr>
        <p:grpSpPr>
          <a:xfrm>
            <a:off x="3117960" y="2774880"/>
            <a:ext cx="11160" cy="1884600"/>
            <a:chOff x="3117960" y="2774880"/>
            <a:chExt cx="11160" cy="1884600"/>
          </a:xfrm>
        </p:grpSpPr>
        <p:sp>
          <p:nvSpPr>
            <p:cNvPr id="2283" name="矩形 35"/>
            <p:cNvSpPr/>
            <p:nvPr/>
          </p:nvSpPr>
          <p:spPr>
            <a:xfrm>
              <a:off x="3117960" y="2774880"/>
              <a:ext cx="1116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矩形 36"/>
            <p:cNvSpPr/>
            <p:nvPr/>
          </p:nvSpPr>
          <p:spPr>
            <a:xfrm>
              <a:off x="3117960" y="3724200"/>
              <a:ext cx="11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5" name="圆角矩形标注 32"/>
          <p:cNvSpPr/>
          <p:nvPr/>
        </p:nvSpPr>
        <p:spPr>
          <a:xfrm>
            <a:off x="4867200" y="3363840"/>
            <a:ext cx="4491000" cy="492120"/>
          </a:xfrm>
          <a:prstGeom prst="wedgeRoundRectCallout">
            <a:avLst>
              <a:gd name="adj1" fmla="val -58162"/>
              <a:gd name="adj2" fmla="val 50268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圈分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Box 25"/>
          <p:cNvSpPr/>
          <p:nvPr/>
        </p:nvSpPr>
        <p:spPr>
          <a:xfrm>
            <a:off x="755640" y="1484280"/>
            <a:ext cx="1584360" cy="64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684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与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170" dur="2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288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9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338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9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341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344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5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6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234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234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60000" fill="hold"/>
                                        <p:tgtEl>
                                          <p:spTgt spid="2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3600000" fill="hold"/>
                                        <p:tgtEl>
                                          <p:spTgt spid="2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432000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2347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矩形 29697"/>
          <p:cNvSpPr/>
          <p:nvPr/>
        </p:nvSpPr>
        <p:spPr>
          <a:xfrm>
            <a:off x="2922480" y="1268280"/>
            <a:ext cx="9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秒钟能做些什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矩形 29698"/>
          <p:cNvSpPr/>
          <p:nvPr/>
        </p:nvSpPr>
        <p:spPr>
          <a:xfrm>
            <a:off x="1547640" y="1989000"/>
            <a:ext cx="71089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飞机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5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火车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喷气式飞机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卫星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79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有的电脑          每秒可以完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万亿次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1" name="内容占位符 29699" descr="si"/>
          <p:cNvPicPr/>
          <p:nvPr/>
        </p:nvPicPr>
        <p:blipFill>
          <a:blip r:embed="rId1"/>
          <a:stretch/>
        </p:blipFill>
        <p:spPr>
          <a:xfrm>
            <a:off x="8058240" y="404640"/>
            <a:ext cx="1085760" cy="1090800"/>
          </a:xfrm>
          <a:prstGeom prst="rect">
            <a:avLst/>
          </a:prstGeom>
          <a:ln w="0">
            <a:noFill/>
          </a:ln>
        </p:spPr>
      </p:pic>
      <p:pic>
        <p:nvPicPr>
          <p:cNvPr id="2352" name="内容占位符 29700" descr="slide0001_image005"/>
          <p:cNvPicPr/>
          <p:nvPr/>
        </p:nvPicPr>
        <p:blipFill>
          <a:blip r:embed="rId2"/>
          <a:stretch/>
        </p:blipFill>
        <p:spPr>
          <a:xfrm>
            <a:off x="6842160" y="5157720"/>
            <a:ext cx="230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文本框 36871"/>
          <p:cNvSpPr/>
          <p:nvPr/>
        </p:nvSpPr>
        <p:spPr>
          <a:xfrm>
            <a:off x="395280" y="2421000"/>
            <a:ext cx="856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铅笔厂可生产铅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支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银行点钞机可以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张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人民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核潜艇水下航行可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计算机计算量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人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不停地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年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4" name="组合 36872"/>
          <p:cNvGrpSpPr/>
          <p:nvPr/>
        </p:nvGrpSpPr>
        <p:grpSpPr>
          <a:xfrm>
            <a:off x="1908000" y="836640"/>
            <a:ext cx="5334120" cy="1066680"/>
            <a:chOff x="1908000" y="836640"/>
            <a:chExt cx="5334120" cy="1066680"/>
          </a:xfrm>
        </p:grpSpPr>
        <p:sp>
          <p:nvSpPr>
            <p:cNvPr id="2355" name="椭圆 36873"/>
            <p:cNvSpPr/>
            <p:nvPr/>
          </p:nvSpPr>
          <p:spPr>
            <a:xfrm>
              <a:off x="1908000" y="836640"/>
              <a:ext cx="5334120" cy="1066680"/>
            </a:xfrm>
            <a:prstGeom prst="ellipse">
              <a:avLst/>
            </a:prstGeom>
            <a:gradFill rotWithShape="0">
              <a:gsLst>
                <a:gs pos="0">
                  <a:srgbClr val="fef7fc"/>
                </a:gs>
                <a:gs pos="100000">
                  <a:srgbClr val="fbcde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文本框 36874"/>
            <p:cNvSpPr/>
            <p:nvPr/>
          </p:nvSpPr>
          <p:spPr>
            <a:xfrm>
              <a:off x="2052360" y="836640"/>
              <a:ext cx="513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9900"/>
                  </a:solidFill>
                  <a:latin typeface="Arial"/>
                  <a:ea typeface="隶书"/>
                </a:rPr>
                <a:t>一 分能干什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6-05T15:18:49Z</dcterms:created>
  <dc:creator/>
  <dc:description/>
  <dc:language>en-US</dc:language>
  <cp:lastModifiedBy>踢飞了我的靴子</cp:lastModifiedBy>
  <dcterms:modified xsi:type="dcterms:W3CDTF">2024-06-06T00:32:38Z</dcterms:modified>
  <cp:revision>29</cp:revision>
  <dc:subject/>
  <dc:title>一分有多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344C288E2E2402591AB05412042C39C_12</vt:lpwstr>
  </property>
  <property fmtid="{D5CDD505-2E9C-101B-9397-08002B2CF9AE}" pid="3" name="KSOProductBuildVer">
    <vt:lpwstr>2052-12.1.0.16929</vt:lpwstr>
  </property>
</Properties>
</file>